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B05-F89C-49AC-9937-C5F23760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89C-409C-4BDD-81C9-8BBB43DE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1AF-3EB8-4BD9-856B-3DEA5E5F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40F-35EE-41E1-ADBE-8F9A3354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8B5E-CA76-450D-BDDC-B45D592E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452-E3F6-403A-BDBD-3314F852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6EA-A24E-42C5-992D-90262D4E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AC9-2660-4798-A159-9C6C5329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155-0EA1-471D-9D5B-A5192C69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B42-B6F7-410A-992B-17561406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B9F-5102-4187-8747-26C78F55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C60-4E76-4CCA-AFFF-2588E64F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帕子五：圣经预言回教的来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?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7404-A159-4AE5-85AC-132046C40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1ADF-8234-4EB0-B5BD-731DD47E47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0"/>
            <a:ext cx="121921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帕子（五）圣经预告穆罕默德或伊斯兰的来临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千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百年来，穆斯林不愿意承认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是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。反而强调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没有留意，圣经曾预指穆罕默德或伊斯兰的来临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好些近代的伊斯兰学者，受了中世纪的「巴拿巴福音」伪经的影响，大胆引用某些圣经，来建立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预言穆罕默德的来临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论点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向来，穆斯林皆说，基督教的福音书已被改过。福音的原本已失落。而近百年来，他们则积极说，这失落的福音书已找到，它就是：巴拿巴福音书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2BF8-FFEF-4B79-AFAB-B29B5F45DF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0"/>
            <a:ext cx="1207296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「长子祝福不能改换」的律法，是在上帝对阿伯拉罕说话，四百五十年后才设立。这诫命还没设立以前，以实玛利长子的名份，确实已被挪走，归于以撒了。而「更改长子祝福」的情况，也曾多次发生在亚伯拉罕的后裔里，并且带来实际的结果。任何人对真理的解释，都不能超越它本身实际例子的运用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伊斯兰学者想要以申命记所说的律法：「长子名份不能更换」，来取消从前上帝已经发出的命定。这样的解释与运用经文，乃是按私意强解经文。在时间的进程上是错误的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若有人任何人试图强解真理，这是作恶，后果将是自取灭亡（彼得后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16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4D94-D8C9-4226-8EEB-25B3D369F6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0"/>
            <a:ext cx="12144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经文所说的「你们弟兄中」，这弟兄有可能指「以实玛利或者阿拉伯人」的後裔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的上下文，文脉，中心思想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分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清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知道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这弟兄是指，出自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以色列十二支派后裔中的一位弟兄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前面的弟兄脉络：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-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祭司利未人和利未全支派，必在以色列中无分无业。他们所吃用的，就是献给耶和华的火祭和一切所捐的。他们在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中必没有产业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上文所说的「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指的是以色列全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E121-E489-4113-8CBF-4F9EF82CED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0"/>
            <a:ext cx="121921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在运用「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这字时，都指以色列人或十二支派中的弟兄（士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1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王下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: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撒下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代上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3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尼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等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在上文要摩西吩咐说，将来以色列人若要立领袖或君王，必须立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的一位，绝对不能立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外的人为王（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4-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君王是一位受膏者；在以色列人的传统中，有三种职分是属于受膏者的身份：君王，先知，祭司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历史的事实告诉我们，以色列人一直遵守这项吩咐，从没有膏立自己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弟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外的人为王，为先知，为祭司的。那么上帝又怎样会在以色列人以外，膏立另一位不是犹太弟兄的人为先知，而要以色列人去相信，顺服听从这不是犹太人的弟兄呢？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A30A-7343-4728-A521-64BEB0DF22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0" y="0"/>
            <a:ext cx="121921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认为是以实玛利的后裔，虽然这族的先祖与以色列人一样，都属亚伯拉罕的后代。但以实玛利的后裔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出埃及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进入迦南地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时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并没有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入「以色列的弟兄中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圣经中的犹太人，在彼此运用弟兄的称呼时，都指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支派的同族人，从来没有用它来指以实玛利，外族或外邦人。这是犹太人的历史事实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F982-BF65-4475-BB75-4DAF78B923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0" y="0"/>
            <a:ext cx="1219212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较早的世纪，有位伊斯兰学者及传记作家伊沙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Ishaq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其着作「上帝的众使徒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ira Rasul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；并注解这段经文说：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摩西所说的这位「将来的弟兄」，指的是就是耶稣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摩西的律法书上，记有上帝藉摩西的口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吩咐犹太人，要信他所预告那位伟大的弟兄。在福音书里，耶稣也曾亲口证实，摩西及其律法书，是出于上帝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注：基督徒从始至终都信摩西及旧约；基督徒所用的旧约，就是犹太人现在的旧约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BB8B-02EF-4DB8-B78C-2C55A01539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0"/>
            <a:ext cx="121921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像摩西的弟兄，不可能是穆罕默德，他没有摩西的三大特点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说：「兴起一位先知像我」；要如何解释「像我」？除了要提出日常生活，为人态度的类同。最重要的，是要根据那段经文的文脉来了解「像我」的意思。本段经文的背景，摩西在回憶当年，犹太人因见上帝显现的威严，无法不恐惧，要求摩西代表他们去与上帝交往，免的他们得罪上帝而死亡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成了上帝中间的中保。上帝要摩西去对以色列人说：「将来上帝也会在他们弟兄当中，兴起一位像他这样的先知中保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.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传神的话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要将当说的话传给他们。谁不听他奉上帝之名传的话就有罪罪（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5-1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.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见神的面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上帝与摩西说话时，是面对面说话的（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:1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6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E228-B4C0-48AD-8B2A-C6A78C59B0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1219212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能行神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上帝证实摩西的中保身份，使摩西能够执行神迹奇事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-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若要定下「像摩西」，那「先知」必须要有以下三个的特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摩西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是上帝与子民之间立约的中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摩西，他与上帝之间的关系是面对面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摩西，他的工作执事，必须施行了从上帝来的神迹奇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三个证明是非常主观的事实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却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成为以色列全家必须看见，才会信谁是「像摩西的先知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试金石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55D5-DC83-42C2-8FB5-6095533F3D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0" y="0"/>
            <a:ext cx="12192120" cy="47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申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34:10-12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的记载说明了这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以后以色列中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再没有兴起先知像摩西的。他是耶和华面对面所认识的。耶和华打发他在埃及地，向法老和他一切的臣仆，并他的全地，行各样神迹奇事。又在以色列众人显大能的手，行一切大而可畏的事」。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段经文说出摩西的特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是上帝与以色列人中间的中保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是上帝面对面所认识的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行了没有人能行的神迹奇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FC07-74DA-422B-BA0A-508E071655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穆罕默德有这三个像摩西所拥有的特点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直接面对面与摩西说话，摩西的启示直接来自上帝，这使他成为一个公认的代表与中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兰经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从没有宣称穆罕默德，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能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面对面见过神。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的启示据说是来自天使加百列的指示（无充分的证据） 。在穆氏有生之年，他没有经历面对面与上帝交往过，这是所有穆斯林都承认的事实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兰经记载说，穆罕默德从没行使过一件的神迹奇事。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有伊斯兰的圣训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dith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记载某些希奇古怪的故事，这不过是传说故事。当年审察穆罕默德的人一直在质疑：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为什么没有一个神迹的记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号，从他的上帝曾赐给他呢（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8:48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6:37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6A8F-ED47-47EF-98E2-573478F784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0"/>
            <a:ext cx="1219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氏只能回答：上帝是能够赐下神迹的，只是他们不知道。又说如果他能有神迹，犹太人与他之间的争执，就早已了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0-9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8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否行神迹奇事，这前题是非常重要的，若想要让有经典的犹太人信，穆氏就是如摩西所说的「先知」；那么穆氏必须按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说，能像摩西那样行神迹奇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穆氏不能作摩西所作的，就不能说他就是摩西所说：像他的那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弟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3098-2209-4600-9580-103AD0E08D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0" y="0"/>
            <a:ext cx="121921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拿巴福音书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。书的内容表达很靠近古兰经，并且支持古兰经的内容；甚至说耶稣曾预言，将有一位先知要来，他名叫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mad,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就是穆罕默德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经过历史学者或者圣经学者鉴定，从没发觉教会内部的流传中，曾有巴拿巴福音书的希腊文或亚拉伯文的抄本。从其内证及外证看来，这是纪元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0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以后，穆斯林用它来为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己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造势的作品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拿巴福音既说，耶稣曾预言穆罕默德的到来。故伊斯兰学者们用心良苦，套用多处圣经来建立他们的见解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然，若深入的分析巴拿巴福音，所引用的经文，立刻就能察觉，这些见解是不确实际的，严重的犯了强解圣经的错误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9814-DF77-44B2-B1E0-F37048EEEA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0" y="0"/>
            <a:ext cx="121921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摩西是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带领以色列人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与神立约的中保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带领以色列人与上帝立约。这约使犹太人成为上帝的选民。耶利米先知曾宣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要与以色列人另立新约（耶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1:31-3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然而，从始至终穆罕默德都没有带领以色列人与上帝另立新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反而，穆氏以暴力，战争，强迫等手段，来咒诅，逼害不接受他先知身份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犹太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留下吩咐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若不动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屠杀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，未世不会来临。</a:t>
            </a:r>
            <a:r>
              <a:rPr b="1" i="1" lang="en-US" sz="2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 </a:t>
            </a:r>
            <a:r>
              <a:rPr b="1" i="1" lang="en-US" sz="24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Sahih Muslim Book 041, Number 6985</a:t>
            </a:r>
            <a:r>
              <a:rPr b="1" i="1" lang="zh-CN" sz="24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；</a:t>
            </a:r>
            <a:r>
              <a:rPr b="1" i="1" lang="en-MY" sz="24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 </a:t>
            </a:r>
            <a:r>
              <a:rPr b="1" i="1" lang="en-MY" sz="24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Sahih Bukhari (Vol. 4, Book 56, Hadith 29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始终，没表现出以上这三个「像」摩西的特点；因此他不能按圣经所说的：被承认或宣称，他就是「像」摩西的那先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1753-FB28-48B9-8D4E-E6C04AF5BB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从古至今只有耶稣一人，才符合摩西所说的那位「像他的弟兄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处理某些伊斯兰学者曾提出，耶稣不可能是摩西所说的「先知」之理由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摩西是先知，耶稣自称是上帝的儿子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反应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新约圣经确实称耶稣是上帝的儿子，但他也被当年某些相信和跟随他的犹太人称为先知（马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:5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4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等）和要来的弥赛亚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DFE8-E2B0-4A03-B5C4-47C0440A24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0"/>
            <a:ext cx="12192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摩西是男人后裔，耶稣是女人后裔（童女所生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耶稣是女人的后裔，但所有的男人除了亚当，都由女人而出。耶稣基督借由童贞女玛利亚所生，使他的降生显为超然，上帝说那是要作为救世主的兆头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但耶稣基督仍完全是人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经启示人类最少有四种生育法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一个被生的名叫亚当：无男无女生亚当（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二个被生的名叫夏娃：有男无女生夏娃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三个被生的名叫该隐：有男有女生该隐（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四种方法，上帝使童女生耶稣：有女无男生救主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请问按以上四种方法生下的人，有那个是不能称为人类的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7A16-727B-4F05-9E5C-875994008C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摩西自然死，穆罕默德病死，耶稣却没死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没有死，是穆斯林的说法。圣经的说法，耶稣死了以后复活。然而，是否自然死，对能不能成先知像摩西的先知根本不是问题。历史的事实告诉我们，由于先知传出真理，当权者总不喜欢听，不愿悔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帝国或者犹太的当权者，曾把许多的先知杀害。这样的结果是圣经及古兰经所愿意证实的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:3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9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的受死，不是失败，不是被上帝所拒，而是上帝所计划的救赎命定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。耶稣基督的受苦与受死，乃要作世人的救赎代价。反而我们能说，因着耶稣愿意放下一切（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6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为人类的益处成为贫穷，受苦受死的，为要叫我们成为富足，这更像摩西的遭遇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B568-8726-4B9B-A780-FCC4090BF5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0"/>
            <a:ext cx="121921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穆氏与摩西一样，成为有面子的政治人物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回应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见证摩西是一位为弟兄的富足，曾甘心放下成为法老承继人的机会和权利；宁可和上帝的百姓同受苦害，也不愿暂享罪中之乐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默氏在麦地那时期，启动圣战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多场，屠杀，夺取不接受伊斯兰之人的性命和财富，自己要求拿掠夺回来的战利品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%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耶稣是创造的主，本是以色列的王，为了人类却到成肉身，成为一个人类人，为我们成为罪犯，且死在十字架上，为要叫我们因他的赎罪而得救，他暂时的贫穷，而在来世成为富足的（太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2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来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;25-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腓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6-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所提的反对理由，并不能证明，耶稣不像摩西所说的先知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EAC4-D405-4856-BBA7-D9AEBAE9D4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0"/>
            <a:ext cx="1219212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以下提出，当年的门徒为什么宣称，耶稣就是摩西所说的那位先知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见耶稣所行的种种超然的神迹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30-3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              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见耶稣与上帝有特殊亲密关系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9-2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                                                                        看见他设立耶利米所预告的新约（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2-2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                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徒彼得宣称众先知所预言的那一位，已经应验在耶稣身上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。  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2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 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摩西曾说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神要从你们弟兄中间给你们兴起一位先知像我，凡他向你们所说的，你们都要听从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3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司提反也引证这预告说：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应验在义者耶稣的身上了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4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也曾公开的说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「你们若信摩西，也当信我。因为他所写的书曾论及我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7674-0BA4-4D03-88B7-6DA56BC9A1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摩西那样，成为立约的中保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藉先知耶利米预告：「耶和华说，日子将到，我要与以色列家另立新约。不像我拉着他们祖宗的手。领他们出埃及地时，与他们所立约。我虽作他们的丈夫，他们却背了我的约。这是耶和华说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说：那些日子以后，我与以色列家所立的约乃是这样；我要将我的律法放在他们里面，写在他们的心上。我要作他们的上帝，他们要作我的子民。他们各人不再教导自己的邻舍和自己的弟兄说：你该认识耶和华。因为他们从最小的到最大的，都必认识我。我要赦免他们的罪孽，不再记念他们的罪恶。这是耶和华说的（耶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1:31-3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0E26-28C5-4E36-AB9B-3B17E0019B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0"/>
            <a:ext cx="12192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说，「我要另立一新约」，这肯定了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位将来的先知，会像摩西那样，是位代表上帝与人立约的中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耶利米先知所预告的内容与文脉，可以看见所预告的新约是从出埃及摩西之约廷伸过来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这是个非常清楚的关联，说明将来的那「先知」，也是一位代表上帝与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色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立新约的中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新约希伯来书告诉我们：「为此，他（耶稣）作了新约的中保。既然受死赎了人在前约之时所犯的罪过，便叫蒙召之人得着所应许永远的产业（来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:15;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另参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6:26-3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；林前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:23-3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9880-9910-4347-9F7A-7E4687EFD4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0"/>
            <a:ext cx="1219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摩西用血立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将血洒在百姓身上说：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你看，这是立约的血，是耶和华按这一切话与你们立约的凭据（出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4:8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是用献祭之羔羊的血来洁净上帝的百姓；因此，像摩西的先知，在另立新约时也必须用血，来除去上帝百姓的罪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耶稣基督初出道传天国福音时，有施洗约翰给耶稣作见证说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「看哪，上帝的羔羊，除去世人罪孽的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先前不认识他，只是那差我来用水施洗的，对我说，你看见圣灵降在谁身上，谁就是用圣灵施洗的。我看见了，就证明这是上帝的儿子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9-3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B486-24C5-4BB0-8C7C-C7C035851A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0"/>
            <a:ext cx="1219212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是立约的中保，是大祭司，也是赎罪祭物的本身。这不是自取的，而是上帝命定的。旧约诗篇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:6-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预告：上帝会为世人预备赎罪的身体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诗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0:6  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祭物和礼物，你不喜悦；你已经开通我的耳朵。燔祭和赎罪祭非你所要。那时我说：看哪，我来了！我的事在经卷上已经记载了。我的神啊，我乐意照你的旨意行；你的律法在我心里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希伯来书的作者引用该经文说：耶稣顺服上帝的旨意来到世上。藉着顺从上帝的旨意，以自己无罪的身体，作为赎罪祭。如同摩西以血另立新约，并以新的约取代摩西旧约制度（来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-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D7E7-B6E6-48CC-901F-FD35E6D8E7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0"/>
            <a:ext cx="12192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) 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宣称，上帝对以实玛利的应许已应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为，以实玛利是阿伯拉罕的长子。上帝曾应许要赐福阿伯拉罕的后裔，以实玛利是其后裔，长子，又有上帝对他应许要赐福于他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9-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摩西在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在你们弟兄中要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兴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起一位先知像我」。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宣传，阿拉伯人，穆罕默德都算是以实玛利后裔，就血统而言，可以说是以色列人的弟兄，穆氏又是后裔中，唯一成为先知者；因此，这事已经应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而，从这预言的经文文脉，上下文，中心思想里，都看不见有任何字眼，摩西提到的这位要来的崇高弟兄，是指以实玛利的后裔，将有人出来，承继像摩西那样的先知职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736F-994B-4E08-9997-CF4338C54A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0"/>
            <a:ext cx="121442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在被卖的那个晚上设立圣餐：「拿起杯来，祝谢了，递给门徒说：你们都喝这个。因为这是我立约的血，为多人流出，使罪得赦（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6:26-28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有从上帝来的众先知预言他一生事迹，有见证人（施洗约翰）及门徒，见证他是立约的中保，则是上帝的羔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因此，只有耶稣才像摩西一样，在上帝的永恒计划下，成为立约的中保。他也如同摩西一样，是面对面被上帝所认识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10F8-855C-48DA-9FF5-1F9D54E836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0"/>
            <a:ext cx="12288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如摩西面对面见神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「我认识他（上帝），因为我是从他来的，他也差了我来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29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曾宣告说：「一切所有的，都是父交托我的。除了父，没有人知道子，除了子和子所愿意指示的人，没有人知道父（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:27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这不是说有人看见过父，唯独从上帝来的，他看见过父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:4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B34D-59CB-4272-AC7E-B65A50C340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523880" y="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0"/>
            <a:ext cx="121921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不但面对面见父，他完全认识父上帝，他说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人看见我，就是看见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了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父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父在我里面，我在父里面，你不信么？我对你们所说的话，不是凭着自己说的，乃是住在我里面的父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作他自己的事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9-1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就是真理，道路，生命，若不藉着我，没有人能到父哪里去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没有人看见过父，只有他才看见过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E8CF-589C-4956-A744-82ADB21F71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的脸面如同摩西那样曾发光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出埃及告诉我们，摩西面对面与上帝说话，摩西的面孔发光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摩西下西乃山的时候，不知道自己的面皮，因耶和华和他说话就发了光（出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4:29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就像月亮，本体不发光，而是反射出阳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耶稣带着彼得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和雅各，暗暗的上了高山（如同摩西在西乃出）。就在他们面前面变了形像。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脸面发光明亮如日头，衣服洁白如光（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1-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脸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是反射上帝的荣光而发光，耶稣的则是发光如太阳。保罗蒙召时就曾看见耶稣基督发出比太阳还光的本体，眼睛立刻都瞎掉，后来被哈拿尼亚祈祷才重获视力（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693D-BB28-4321-8869-B999C76772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同摩西那样能行各样的神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所行的最大的神迹是上帝使他控制海洋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「摩西向海伸杖，耶和华使用大东风使海水一夜退去，水便分开，海就成了乾地（出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4:21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中有一些先知曾控制了河水（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王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但再没有先知如摩西那样，行过支配海洋的神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直到耶稣平静了狂风巨浪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                                                               「耶稣上了船，门徒跟着他。海里忽然起了暴风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于是起来，斥责风，向海说：住了吧，静了吧。风和海就大大的平静了。他们就大大的的惧怕，彼此说：这到底是谁，连风和海也都听从他了（可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36-4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9CC5-BB3D-4399-9505-C948017DA6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只是对着狂风巨浪说了两个希腊字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iop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静吧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efimoso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沉默吧」。另有一次，耶稣还在海面上行走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6-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2-3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说明他能制服并超越海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摩西那样赐下生命的粮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一个摩西所行的大神迹是，上帝藉他从天上降下吗哪，来喂养缺乏食物的以色列百姓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4-3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年犹太人看见耶稣在旷野用「五个饼，两条鱼」喂饱最少五千人（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10-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3-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另一次则用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七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饼几条小鱼喂饱四千人（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1-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马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32-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8B49-9923-4E48-BF6E-9624C0C474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行了这神迹以后，带来什么结果呢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？「众人看见耶稣所行的这神迹，就说：这真是那要来到世间的先知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迹，犹太人立刻知道，耶稣就是摩西所说那位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「像他的先知」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认出耶稣所作的，与摩西所作的具有重大的关联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结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就想逼耶稣作王。耶稣知道犹太人只是按外表来认识他的使命，就避开他们，退到山上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B7CB-6B72-48AC-A8D8-9E72D5BFED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问耶稣：上帝在出埃及时曾藉摩西赐下粮食给以色列人吃，耶稣是否也预备要如此作呢？这话证实了耶稣先前所说的：你们找我不是因为神迹，乃是因吃饼得饱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2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耶稣回答这班犹太人，不要追求物质层面的事，要追属灵层面的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耶稣回答他们说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                                                                               「我就是生命的粮。你们的祖宗在旷野吃过吗哪，还是死了；这是从天上降下来的粮，叫人吃了就不死。我是从天上降下来生命的粮，人若吃这粮就永远活着；我所要赐的粮就是我的肉，为世人之生命所赐的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:48-5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就是天上所降赐生命的吗哪，如同上帝曾藉摩西降下吗哪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99B9-01CC-4C03-89D2-B03DED1ADB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摩西举铜蛇那样，被挂在木架上，使仰望的人都得拯救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出埃及，由于犹太人常发怨言，审判就临到他们，有毒蛇从旷野来咬死许多人。犹太人来求摩西，要摩西把这灾挪走。摩西求告上帝；上帝要摩西用铜造一条火蛇，挂在杆子上；凡被咬的，只要一望这铜蛇，就必活了（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4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预表耶稣为人类的罪受咒诅，要被挂在木头。将来凡仰望十字架的，就必得以从死复生。主耶稣在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，对尼哥底母说到人如何才能重生，不死，见上帝的国，进上帝的国：主耶稣回答关健在于：「摩西在旷野怎样举蛇，人子也照样被举起来，叫一切信他的都得永生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D177-E768-46A2-9F75-EDE885F902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0"/>
            <a:ext cx="1219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小结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身上所有的三大特点；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立约的中保；行大神迹的先知；面对面见上帝的先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这些特点都应验在耶稣身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下，我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事实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就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如当年看见这些事的犹太人那样说：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这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（尔撇）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真是那要来的先知（约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7:20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亲口指出，他自己应验了摩西所指的那位「弟兄」（约翰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5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使徒们在新约中引用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经文说，这经应验在耶稣基督的身上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4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；徒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17-2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8486-C1A1-4406-8DED-1165501B22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0" y="0"/>
            <a:ext cx="1219212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论以实玛利的预言，只提到他会有后裔及政治上的兴盛。历史的事实告诉了我们，以实玛利得着了十二个儿子，这些儿子以后都成为十二个族长，居住在以色列人的东边（阿拉伯地区）。这些事后来是应验了（约创世记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7-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20;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3,1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旧约创世纪所强调的事实是：</a:t>
            </a:r>
            <a:r>
              <a:rPr b="1" lang="zh-TW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　　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亚伯拉罕原配妻子撒拉所生的儿子，才是上帝所命定，要承继亚伯拉罕产业的儿子。他将被赐福，会不断有君王及先知从他们而出；亚伯拉罕的后裔，会先服苦四百年，以后必要承受迦南地为业，也将成为上帝的国度，祭司，子民（创世纪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-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13-1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5-16;1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2;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 17-1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6:2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3-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5:11-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DD2C-D014-4CD4-A5E8-B2BFE4AF95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0" y="0"/>
            <a:ext cx="1219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的出生，婴儿时期都类同摩西的遭遇（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逃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5-16,2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照马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小时候两者都被神圣之手的介入而获救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-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面对面见上帝：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圣经见证耶稣身为上帝的儿子，与父上帝有许多面对面的经历。不但如此，耶稣基督还是上帝本体的真像，人看见了他，就是看见了父上帝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3,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歌罗西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5-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-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摩西在西乃山四十天见上帝的面；耶稣则在旷野四十天禁食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寻求上帝的面（出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7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；太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6205-C6CE-4F56-BAAD-8C8C844A49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0" y="0"/>
            <a:ext cx="12288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也像摩西那样脸面发光：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变像山上，耶稣的面发光如太阳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4:29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光辉比摩西更强烈（林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6-1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同摩西成为中保，能站在父上帝的面前，为世人代祷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摩西只为犹太人祷告，耶稣则为大祭司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全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人祷告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30-3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提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如同摩西，成为上帝与人之间藉立约而成为中保（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4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马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林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3-25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。上帝没有与穆罕默德立任何的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2E35-28C4-4FE1-B5A8-111CB685FE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0"/>
            <a:ext cx="12288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同摩西，能将人从捆绑中释放出来；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使人脱离奴隶，耶稣却使人脱离罪与死亡的捆绑（出埃及；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；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32-3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同摩西，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是以色列人（弟兄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                                                                   耶稣按家谱说，是犹大支派的后裔（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6:5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2-3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摩西却是利未支派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能行神迹。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甚至耶稣所行的神迹奇事，比摩西还多。包括摩西未曾行过的神迹：叫死人复活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5-26,43-4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3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2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，所说所传的一切话，是直接来自父的指教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92E3-EF8C-4109-9AA5-D7BA3A6CE7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7520" y="0"/>
            <a:ext cx="12144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3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如同摩西那样，为弟兄的好处，富足，甘心放下一切，受若，受害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叫我们从咒诅变为祝福（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;25-2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6-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成为世上最谦卑的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5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，摩西举铜蛇救以色列人；耶稣被挂在木头上，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为人赎罪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三天从死里复活，被高举起来，成为人类赎罪的依据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4;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9-3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6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与摩西一样，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天粮喂养百姓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吗哪是从天上来的食物。耶稣是天上降下来的生命粮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31-35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AA53-589B-4091-87C8-1D698DC8BF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0" y="0"/>
            <a:ext cx="1219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与摩西一样，使人得活水的供应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)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与摩西一样，能行出掌控海洋的神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)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与摩西一样，用血来与犹太人立新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种种的举列，足以说明所预告的，全部成就在耶稣基督身上。穆罕默德根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符合旧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命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任何预告。旧约圣经没有预告穆罕默德，当然，新约圣经更不会预告穆罕默德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一切的预言，一切的应许，一切的更新，都落实在耶稣的身上。耶稣是前无古人，后无来者，神与人之间唯一的中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714D-326B-4D0B-BCB0-97B4B6F2C9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旧约曾以摩西及其它的人物，事件，来作耶稣的喻表，但圣经并没有意思说：耶稣不过如同摩西那样，是应许中的一个先知。不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远超过这一切；就如新约圣经所见证的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天使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使是服役的灵；耶稣是上帝本体的真像（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一切赎罪的血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十字架上所流的血，超越任何洗罪的血：超越摩西所用来洗罪之牛羊的血，义人亚伯见证的血。这些不过是影子，那实体就是耶稣（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11-10:3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82E6-A770-462A-966A-7249344AE1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0" y="0"/>
            <a:ext cx="12192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一切的救主：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耶稣以外别无拯救，因为在天下人间，没有赐下别的名，我们可以靠着得救（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不论是旧约律法书（圣经）或是新约圣经，上帝只设立一位真正的救主，唯独耶稣基督一人，成就上帝永恒的救赎计划。上帝何等期待我们认识这奇妙的真理与作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一切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先知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应许：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的应许，不论有多少，在基督里都是「是」的；所以藉着他也都是阿门的（实实在在）林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0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C7E3-15DB-4942-BC61-862F93878D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0"/>
            <a:ext cx="1219212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摩西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是神的仆人，在神家全然尽忠；耶稣为上帝的儿子，治理神的家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-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建造房屋的，岂有比房屋的主人大么？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稣超越亚伦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伦是地上会死的大祭司；耶稣基督是升上天上圣所，永远的大祭司（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4-5: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亲爱的朋友，悔改信主吧。你和你一家必然得救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D488-919C-4EE5-81E1-5AC278E4C1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0" y="0"/>
            <a:ext cx="121921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4)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只应验了弥赛亚的经文，没有应验摩西所说：「弟兄中一位先知像我」：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学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mad Deedat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发出妄论说：论到谁会是摩西所说那将来临的先知，他说有三个论据要注意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关于「弟兄中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兴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起一位先知像我」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关于「弥赛亚的预言」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关于「以利亚先知要来」的论据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认为当时的犹太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把这三个身份分开处理的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9-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5CA1-D9A7-47B8-8EFE-8356FEC032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0" y="0"/>
            <a:ext cx="121921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按新约圣经的论点这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人物分别是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来的以利亚，就是新约中的施洗约翰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就是弥赛亚（麦西哈）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「弟兄中兴起一位先知」，当然指的就是穆罕默德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耶稣不是摩西所指的那位「像他的先知弟兄」。他认为理由：是如果耶稣已经是弥赛亚，他就不能是摩西所预告的那位「弟兄先知」。有這樣的說法，是因為犹太人曾派代表问施洗约翰：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你是那以利亚吗，是基督吗，或是那先知（约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:19-22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单从一小段经文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9-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就说犹太人当年有那样的分类见解，这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是不同的人物，这未免太牵强和断章取义，完全看不懂新约圣经的解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D2F1-B9DD-4089-A834-10D0D59828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0"/>
            <a:ext cx="121921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撒还没出世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伯拉罕确实希望透过婢女夏甲所生的儿子以实玛利，能承继他所有的基业。亚伯拉罕曾为以实玛利代求，上帝给了他这样的回答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亚伯拉罕对上帝说：但愿以实玛利活在你面前。上帝说：不然；你妻子撒拉要给你生一个儿子，你要给他取名叫以撒。我要与他坚定所立的约，作他后裔永远的约。至于以实玛利，我也应允你，我必赐福给他，使他昌盛，极其繁多，他必生十二个族长。我也要使他成为大国。到了明年这时候，撒拉必给你生以撒。我要与他坚定所立的约（创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19-2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非常明显的吩咐，以实玛利的后裔，不能承继上帝与亚伯拉罕所立的那个永约。上帝所要坚定立约的对像是以撒，及他的后裔来承受；而不是以实玛利和其后裔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93AA-BF36-4660-81DC-B342565B9E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0"/>
            <a:ext cx="1219212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确当年有犹太人，论耶稣是谁时，曾有人公开说：他实在就是那先知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4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又有人说耶稣：他是先知中的一位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或他像先知（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或他是以利亚（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甚至说他是死里复活的施洗约翰（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有人认出他是基督，更有人说：他是上帝的儿子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从来没有教导这样的次序；先是以利亚，后是基督，再后是「那先知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猶太人如此問，说因为耶稣开始形成许多超然的神迹，讲道也非常特殊，耶稣究竟是谁，圣经有提到他吗？犹太人不过是用许多可能性人物来猜测。最想知道摩西书所预言的人物，是不是他。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EA41-91AE-4EE1-B50B-E5055A00A9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0" y="0"/>
            <a:ext cx="12192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任何预言没有应验前，都是一种「奥秘」（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9:2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圣经的内容超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/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预言，预言的项目与主题又多。单属弥赛亚的预言，就有三百多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从他们的问法，可以看出乃是好奇的，推论的在问。而不是说当时提到的「以利亚，基督，那先知」，犹太人已经非常清楚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圣经从来没有要把「那先知（像摩西的），以利亚，基督」分开来对待。犹太人知道有关「那先知，以利亚，基督」要来的预言。这些预告如何应验，当时还没法确定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当年接触过耶稣的犹太人，能同时说：耶稣就是摩西预言中的那位先知，有的说只不过是先知中的一位而已；有说他是施洗约翰的复活，也有说耶稣就是基督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40-4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还有人说耶稣就是：「上帝的儿子」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57C1-D29E-4B29-85E5-33A8038C5F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12192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开始认出，耶稣就是摩西所预告的先知；说当天行过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饼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条鱼喂饱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千人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-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饼和几条鱼（马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-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喂饱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千人的时候，他们就以为他像摩西那样从天上降粮食，他就是像摩西的弟兄。也是要来的弥赛亚就要立他为王，耶稣却躲开他们去了旷野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的门徒和当时的见证人等，却是要等到耶稣钉十字架，从死里复活显现以后，才完全的明白与确认；耶稣就是众先知所预告的基督，也是摩西所说的那位像他的那先知，更是神的儿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E5A9-6103-4B2F-A672-F0BC7A90E9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0"/>
            <a:ext cx="12192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「先知」，「基督」这两个尊号，仍不足以说明耶稣全部的身份。 因有两位先知，以赛亚及弥迦先知，于耶稣降生前八百年，曾预言基督的超越性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6-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主要给你们一个兆头，必有童女怀孕生子，给他取名叫「以马内利（就是上帝与我们同在的意思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有一婴孩为我们而生，有一子赐给我们。政权必担在他肩头上。他名称为奇妙策士，全能的上帝，永在父，和平的君。他的政权与平安必加增无穷。他必在大卫的宝座治理他的国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58CA-2871-4F6B-978B-160131C13B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0" y="0"/>
            <a:ext cx="12192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弥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2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伯利恒的以法他阿，你在犹大诸城中为小。将来必有一位从你哪里出来，在以色列中为我作掌权的。他的根源从恒古，从太初就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哉，按先知以赛亚及先知弥迦所说：为童女所生的「那先知」，「基督」，也是「全能的上帝」，「永在的父」，「和平的君 」，又名叫「上帝与我们同在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年的见证人，除了以「那先知」；「基督」；再加上「上帝怀里的独生儿子」，来尊称降这位「创造万有的道，成为肉身」，降世为人的耶稣，这又有什么过份或者亵渎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的「降经节」是记念「古兰经」乃「道成经典」。真主的「道能成经典」，为什么不能接受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真主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道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成肉身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C969-477C-461A-920F-578DB11F9D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4400" y="0"/>
            <a:ext cx="121917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5)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认为，旧约以赛亚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42:1-13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是另一处预告穆罕默德来临的经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赛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2:1-3 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看哪，我的仆人我所扶持所拣选、心里所喜悦的！我已将我的灵赐给他；他必将公理传给外邦。他不喧嚷，不扬声，也不使街上听见他的声音。压伤的芦苇，他不折断；将残的灯火，他不吹灭。他凭真实将公理传开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……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赛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2:6-7 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耶和华凭公义召你，必搀扶你的手，保守你，使你作众民的中保（中保：原文作约），作外邦人的光，开瞎子的眼，领被囚的出牢狱，领坐黑暗的出监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451B-0B15-41D0-9AAB-95390402D0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0" y="0"/>
            <a:ext cx="12192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论是犹太人及基督徒，皆接受这经文是在预告弥赛亚（受膏者）的到来。其实在以赛亚先知书中，有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段经文是用来预告，弥赛亚之来临：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2:1-1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9:1-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:4-1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2:1-1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:1-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这些经文都是受膏者，弥赛亚生命的画像写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，分段的去研读它们，就会发觉以赛亚第五十三章所预告的，其实就是：「弥赛亚于十字架上受苦的画像」；经文启示这位来临的弥赛亚，将要背负世人的罪孽，要为世人的罪经过十字架的苦刑，受死，复活。就这一段经文的启示，已经强而有力的指出，自古以来只有一个人，应验了这几段经文的内容；他就是耶稣基督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AA74-189C-48B6-B76A-1509154434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关弥赛亚的经文说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2: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：「上帝必将他的灵赐给他」。在以赛亚先知书中，另有好几处经文，都加以重复证实「耶和华上帝的灵」，要特别的降在弥赛亚（基督）的身上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「从耶西（大卫的父亲）的本必发一条，从他根生的枝子必结果实。耶和华的灵必住在他身上，就是使他有智慧的灵，聪明的灵，谋略和能力的灵，知识和敬畏耶和华的灵。他必以敬畏耶和华为乐，行审判不凭眼见，断是非不凭耳闻。却要以公义审判贫穷人，以正直判断世上的谦卑人。以口中的杖击打世界。以嘴里的气杀戮恶人。公义必当他的腰带，信实必当他胁下的带子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-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35CC-3D9E-4E3D-B676-BFBDEA6BC7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「到那日耶西的根立作万民的大旗，外邦人必寻求他。他安息之所大有荣耀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「主的灵在我身上，因为耶和华用膏膏我，叫我传好消息给谦卑的人，差遣我医好伤心的人，报告被掳的得释放，被囚的出监牢，报告耶和华的恩年和我们神报仇的日子，安慰一切悲哀的人（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1:1-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-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出，受膏者弥赛亚是出于耶西的根。耶西是大卫王的父亲，意思是说，弥赛亚出自大卫的后裔（参路得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2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撒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-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马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2C06-B858-498F-BE98-251C6DB863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按以赛亚先知的预告。受膏者弥赛亚是源自大卫的受裔。因此，这人必是耶稣，而不是穆罕默德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上帝之灵所充满的，是耶稣基督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-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也不是穆氏。这是古兰经也承认的（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Ruh-ullah) –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9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曾公开宣称，在他身上已经应验了以赛亚先知书中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1:1-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内容（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4-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0143-0C1E-4953-BC1E-E1C2F18138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0" y="0"/>
            <a:ext cx="12192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的记录也见证说：被召且得着先知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职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，是出于以撒，雅各的后裔，而不是以实玛利的后裔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我赏赐他易斯哈格（以撒）和叶尔孤白（雅各），我以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预言和天经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赏赐他的后裔，我把他在世的报酬赏赐他。在后世必在善人之列（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9:27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文清楚的说明，得着预言恩赐及领受天经启示的后裔，是出于亚伯拉罕的儿子以撒，以及从雅各而出的后裔（以色列人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一处古兰经也记录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立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后裔身份再次被肯定是出于以撒，雅各的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以色列的后裔阿，你们当信我所降示的，这能证实你们所有的经典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 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以色列的后裔阿，你们当铭记我所赐你们的恩典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并铭记我曾使你们超越世人（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41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7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」。另参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121-122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7224-138C-403B-A2A4-C7DC92D30E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-96840" y="0"/>
            <a:ext cx="12288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6)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认为以赛亚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1:13-17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，是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论阿拉伯的预言，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经文应验了穆罕默德的巴达战事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3-17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论亚拉伯的默示：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底但结伴的客旅啊，你们必在亚拉伯的树林中住宿。提玛地的居民拿水来，送给口渴的，拿饼来迎接逃避的。因为他们逃避刀剑和出了鞘的刀，并上了弦的弓与刀兵的重灾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底但人通常被认为是以实玛利或亚伯拉罕的后裔（创世记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: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他们以游牧、贸易和商队活动闻名，可能与历史上的 纳巴泰人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Nabataean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有一定联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对我这样说：「一年之内，照雇工的年数，基达的一切荣耀必归于无有。弓箭手所余剩的，就是基达人的勇士，必然稀少，因为这是耶和华以色列的神说的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1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1DB3-6D44-4BF0-A790-29D8F8DBDE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0" y="0"/>
            <a:ext cx="12192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达人（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edar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是以实玛利的后裔，主要从事畜牧和游牧，是阿拉伯半岛北部的强大游牧部落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底但人（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edanite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也是以实玛利的后裔，主要以商旅贸易为主。 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二者可能有联系，但基达人更偏向军事与游牧，底但人更倾向贸易。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“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达的荣耀归于无有” 是以赛亚的预言，表明基达人最终会衰落，可能因战争或政治变动，而被其他部落取代，或消灭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79AC-8020-4536-B5F5-B9E24053A2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0" y="0"/>
            <a:ext cx="12288960" cy="37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仔细读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3-1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，那根本不是在预言穆罕默德于巴达的战事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巴达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Badar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之战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被麦加人所逼，逃到麦地拿。迁都一年后，于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D62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氏曾派伊斯兰军去攻占麦加城的商队，而引起战争。对方不甘心，由麦加召来一千人反攻麦地拿。双方在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dar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地方打仗。穆氏以三百多人战胜千人。这是一场决定性的胜仗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历史的回顾，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3-1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，乃是预告上帝要藉着巴比伦及亚述帝国的军队，来对亚拉伯人施行审判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述人的军队曾于公元前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3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按预言所说的，前来围攻亚拉伯地区。接着又轮到巴比伦王尼布加尼撒前来围攻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历史告诉我们，巴比伦王于公元前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5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曾将基达人打败（耶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9:28-3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306E-E744-4D52-8FB5-FD4AB3700E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0" y="0"/>
            <a:ext cx="1219212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比伦人和亚述人并不是以实玛利的后裔，而是来自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闪族（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emitic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的另一支，属于亚兰人（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amean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或亚述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比伦人（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ssyro-Babylonian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的文化体系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尽管他们和以实玛利的后裔（阿拉伯人）同属闪族语言家族，但血统上并无直接联系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的经文，给我们提出了时间表：「主对我这样说；一年之内，照雇工的年数，基达一切的荣耀必归于无有」（照雇工年数的意思是，自卖的雇工，时间一到，完成合约，可以立刻走人。形容被灭掉的时间绝不迟缓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要强把这段历史已经应验的经文，运用到一千年以后的伊斯兰世界里，是件轻易就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推翻的错误运用与解释。巴达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dar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之战是阿拉伯人打阿拉伯人。亚述人与巴比伦的军队与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0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千多年后的巴达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dar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之战，哪来的关联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D191-0977-4D89-B0B0-733E8BF5E1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0" y="0"/>
            <a:ext cx="12192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7)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认为以赛亚</a:t>
            </a: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8:11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是预告古兰经的来临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赛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1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经文所说：「主要藉异邦人的嘴唇和外邦人的舌头，来对这百姓说话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不是预指「古兰经」的来到。如果按整章经文的文脉来看；「藉外邦人的舌头」，来对背逆的以色列说话；指的是上帝要藉着亚述人审判，并会攻打及占领以色列中高傲的以法连支派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告诉我们，上帝责备作恶，高傲，醉酒的以法连百姓（第七节说：连在他们中间的祭司与先知都醉酒）。上帝决定要用外邦人，就是说别国话（亚兰语）的人，来教训及审判这班背逆的子民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0D3E-9B1F-40A4-A8C4-741FF5AE26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0" y="0"/>
            <a:ext cx="1219212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曾藉摩西说：当以色列人背道，作恶，不顺服，不听从上帝的话语，上帝就会用说外语的人，来教训审判以色列人，藉此向他们说话。这成为诫命，记载在摩西的律法中。上帝要求以色列要顺服，听从他的话。这是作他国度，祭司，子民的唯一条件。若背逆，违命必遭受各类的咒诅及审判。管教临到若不悔改；最后的咒诅则是，兴起讲外语的人消灭以色列国让他们成为亡国的奴隶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你若不听从耶和华你上帝的话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下的咒诅必临到你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。耶和华必将你和你所立的王，领到你和你列祖所不认识的国去，在哪里，你必事奉木头石头的神（申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15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6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你所生的儿养的女却不算是你的，因为必被掳去（申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4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新宋体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EE6E-EC0A-4DDE-B3D3-69DF96B8F2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0"/>
            <a:ext cx="12192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「耶和华要从远方带一国的民，如鹰飞来攻击你。这民的言语你不懂得这民的面貌凶恶，不顾恤年老的，也不怜恤年少的。他们必将你困在你各城里，直到你所依靠高大的城墙都被攻破。将你困在你上帝所赐给你的地方（申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49-50,5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	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人必问说：耶和华为何向此地这样行呢？这样大发烈怒是什么意思呢。人必回答说：是因为这地的人离弃耶和华他们列祖的上帝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(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申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22-25)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從歷史的回顧中，這些被用来管教犹太人的外邦國家計有；亞蘭，亞述，巴比倫，波斯，希臘與羅馬等強國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有人说：在这些经文里，我们看见上帝要用外邦人的舌头来向以色列人说话，指的就是有关古兰经的预告。那纯粹是一厢情愿的说法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5934-0FBB-4683-9B35-514782E54D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)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认为，耶稣曾说在他以后有位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保惠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」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拉克莱托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要来，那是预告穆罕默德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何穆斯林会说：耶稣所说的保惠师，就是穆罕默德？默罕默德自己在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1: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提到到耶稣的这句“保惠师”就是指他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以色列的后裔阿。我（尔撒）确是真主派来教化你们的使者，他派我来证实在我之前的讨拉特（旧约），并且在我之后诞生的使者，名叫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阿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默德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Ahmad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，向你们报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想要建立耶稣曾预告穆罕默德的来临，就找出另一个与「保惠师，安慰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拉克里多斯 」相近的字希腊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巴里克来托斯 ：可称颂）来宣称，福音书所说的希腊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之误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BD28-ECAC-46BF-9C86-F8A7C441C5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0" y="0"/>
            <a:ext cx="1219212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里耶稣的确有预言保惠师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来。但误写的可能性是不存在的；因为：要把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ErIclYtos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换成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巴拉克来多士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需要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改变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,A,E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三个字母。 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些变更在希腊文中会是非常明显的。在已发现上万份的约翰福音古抄本中，没有一部古抄本曾用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巴里克来托斯 ：可称颂）。这字在新约圣经中，也从没有用过，包括七十士译本（希腊文的旧约圣经译本，主前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）也没用过这个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新宋体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阿拉伯文尊贵者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MAD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HAMMAD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具有同样的字根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MD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含意有「尊贵，可称赞」。穆斯林就一厢情愿的咬定说，耶稣其实是说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称颂者</a:t>
            </a:r>
            <a:r>
              <a:rPr b="1" lang="en-MY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mad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来，穆罕默德就是耶稣所说的那要来的可称赞者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时有基督教异端“属以便尼派的犹太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为讨好默氏而说：圣经中有预告到穆罕默德的事迹。穆斯林最多引用来支持默罕默德被圣经预告的经文，就是旧约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1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预言了他和 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6-1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预言了他。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97AB-5C36-45AA-BBB8-FAEE32A817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0" y="0"/>
            <a:ext cx="12192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教会的历史中，保惠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谁，已经由耶稣自己亲口说明：那是指圣灵，这从来就没有困难去了解，或者需要去猜想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绝对不是指穆罕默德，而是指圣灵的降临。理由如下：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耶稣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将要来的保惠师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是肉眼看不见的，但他要内住在信徒里面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16-17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对保惠师的描诉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是神的灵，真理的灵，不朽的，非肉体的，肉眼不能见，要住在信徒里面，要永远与每信徒同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B516-6F03-4AFC-A443-36D696C1B9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0"/>
            <a:ext cx="12192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)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宣称，以实玛利没有失去长子的名分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些伊斯兰学者错误引用摩西的律法，来支持他们的论据说：以实玛利是亚伯拉罕首生的儿子，他配得双倍的祝福。因为摩西的律法说：                    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申命记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1:15-17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人不能因为所不爱之妻子生了长子，就把他长子的事实取走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命记的律法，是上帝对亚伯拉罕立约以后的启示，那是四百五十年以后，才藉摩西设立的。伊斯兰学者不顾时间的前后，断章取义的套用，是错用了经文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A040-8C6C-40DA-B7C0-18D3046B2E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0" y="0"/>
            <a:ext cx="12192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单就这样的形容，就能叫门徒知道，这位保惠师是神圣的，是真理的灵，具有神性，绝不会是指穆罕默德或任何世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7, 2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这位保惠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就是真理的圣灵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也同意，「神的灵」与人的灵有本质上的不同。穆斯林对「圣灵」有严重的教导。在传统的伊斯兰教义中，他们认为圣经所说的圣灵，就是天使长加百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论是天使，精灵，人，都有自己的灵，这些灵都不同于神的灵，神的灵就是神自己。如果把神的灵讲成是天使加百列，在神学观上这是错误的说法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BEDD-B115-4566-8892-7CB0E30D51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0" y="0"/>
            <a:ext cx="1219212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这位圣灵保惠师来，是为要荣耀我（耶稣基督）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3-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如果穆斯林要说：穆罕默德就是保惠师，照经文所说，穆罕默德来就得荣耀耶稣了。但穆罕默德所做所为，从来都没有意思要荣耀耶稣基督，而是要替代耶稣基督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保惠师）这字只出现在使徒约翰的书信中。约翰曾在另外一封书信里，用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RACLE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称呼耶稣基督：「若有人犯罪，在父哪里我们有一位中保（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就是那义者，耶稣基督（约一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在书信用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称呼耶稣对人类的护卫师，耶稣说当他回到天上进入荣耀，他要打发圣灵来当保惠师，就没有理由说他会预言一个名字带有可称颂者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来替代圣灵在地上作的护卫工作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F879-DBE4-4A0A-B8B7-00724FEFDD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对门徒说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「你们认识他，因他常与你们同在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17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说：这位圣灵已经被门徒所认识经历，知道，看见其作为的。耶稣是被圣灵所充满，且藉圣灵来行神迹奇事。只是那时圣灵还没有降临在他们身上。非常明显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不可能是耶稣所指的圣灵。因为圣灵已经降临，而穆氏还没有出世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7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后才出世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许多比穆罕默德更早的新约圣经古抄本，及已经发现的古抄本都采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，说明教会历史一直都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来形容所要赐下的圣灵，从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未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用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ICLY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。何来改变或误抄的可能性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86BA-7F72-431D-ACED-0CFB1D1F57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＊按耶稣基督所说：保惠师圣灵，最主要的工作是荣耀耶稣基督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要荣耀我（耶稣）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要为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耶稣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作见证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2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要使人为罪为义，自己责备自己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8-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要把一切我要承受的，教导给你们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要使你们想起，我曾教导过的一切事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要来临的保惠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racleto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，首要的工作不是取代耶稣，不是另立一位中保；而是要把人引到耶稣面前，使人认识耶稣基督，并吸引他们归向耶稣；将耶稣所授的荣耀启示在人心中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14C6-7455-4663-94ED-7EA7292278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0" y="0"/>
            <a:ext cx="12192120" cy="30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惠师圣灵也是上帝的灵，耶稣还没道成肉身以前，圣灵已在世上工作，参与了创造及救赎之工。他曾充满许多合神心意的圣徒，先知。最后，这位神荣耀的圣灵，因耶稣基督所成就的救赎，被差来充满在一切信耶稣的人身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耶稣对门徒说：圣灵来了，他要重生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切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接受耶稣基督作救主的人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圣灵不为自己说话，只为耶稣成就的救赎计划，作荣耀的见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完全与穆罕默德所作的不一样。穆氏所作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人顺从他，尊荣他，穆斯林封他说是上帝最大的，最末后的使徒。实实在在的说，穆氏根本不能承继，也无法承继耶稣基督的工作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氏本身则是个软弱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会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罪，贪图战利品，而屠杀不承认他的人，而且是个会死在罪中的人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422D-47B5-4518-BC69-0AF4693BCB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0"/>
            <a:ext cx="12192120" cy="17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复活以后，有四十天之久，在地上与门徒谈论天国的奥秘。耶稣曾告诉门徒，不要马上就向世人宣告耶稣已成就的圣工。要在耶路撒冷等候所应许保惠师圣灵的降临。当圣灵降在他们身上，他们就要得着能力，并要在耶路撒冷，撒玛利亚，犹太全地，至到地极为耶稣作复活的见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所说的圣灵保惠师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使徒行传二章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记戴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那是在耶稣复活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以后，在五旬节时就已经降临。藉着圣灵的充满，门徒果然如耶稣所说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着從聖靈來的能力，能行神迹奇事，印证所传的道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8-20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8;  2:42;  4:33;  5:12-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F8F1-EDC8-4E1C-9391-0692F1888C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0" y="0"/>
            <a:ext cx="12192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)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认为马太</a:t>
            </a: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1:33-43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预告，神的国从犹太人中夺回交给以实玛利的后裔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太 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1:33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你们再听一个比喻：有个家主栽了一个葡萄园，周围圈上篱笆，里面挖了一个压酒池，盖了一座楼，租给园户，就往外国去了。 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事以这恶租户竟然把园主的儿子杀掉而结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太 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1:42-43  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「经上写着：匠人所弃的石头已作了房角的头块石头。这是主所做的，在我们眼中看为希奇。这经你们没有念过吗？所以我告诉你们，神的国必从你们夺去，赐给那能结果子的百姓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某些伊斯兰学者，套用马太福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33-4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来说明，上帝的国，已经从不结果子的犹太人手收回，转交给会结果子的以实玛利后裔。意思是说，上帝国度的作为，从犹太教转去伊斯兰教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D8F0-F317-4A3D-AB33-36DD85B54F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0" y="0"/>
            <a:ext cx="12192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33-4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确实是一项「收回的预告」。这经文是耶稣对犹太教当局，所发的最严重警告：上帝国度，祭司，子民的身份，要从不结果子并作恶的园户（指犹太官方）手中收回。由于犹太人的种族主义太强（耶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难以成为别族人的祝福，最终沦落为自私的种族主义民族。非常鄙视没有上帝的外帮人。耶稣基督曾公开的责备他们，自己不进上帝的国，反而拦阻别人进入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犹太官长拒绝耶稣的原因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按众先知的预告（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）当弥赛亚第一次降临时，先要完成赎罪的大工，使重生得新生命的大能，得以临到世人，耶稣基督要成为世人的救主，大祭司；再后弥赛亚还要再来，并引进新的禧年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1712-8018-46B6-8CE1-D890B74161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0" y="0"/>
            <a:ext cx="120729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年犹太人的神学有偏差，看不明白所预告的弥赛亚有「受苦及荣耀再来」的双重预告。他们只捉着耶稣基督第二次荣耀再来，作为信仰的依据。弥赛亚第二次再来的预告的确曾论及他要作王，并将一切仇敌制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地经过巴比伦，波斯，希腊，罗马等帝国统治，前后多大五百多年，当年正受罗马帝国统治，犹太人最希望看见的，也是他们确信的，就是上帝能早日差弥赛亚来，制服列国，建立上帝的国度在地上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年犹太人看见耶稣基督，不过是个谦卑的人子，所讲的是爱人如己的教导，不谈政治，不讲革命，不肯作地上的王；犹太当局就不愿认同他就是所预告的弥赛亚。耶稣基督预知，犹太当局会误会及不信他所传讲的真理，最后遭至上帝的遗弃（太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:37-3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52D6-6E9D-43A1-BE99-A334D56DEB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19160" y="0"/>
            <a:ext cx="120729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耶稣在后期传道日子里，他向犹太人提及若拒绝他所讲，所作的一切，又亵渎圣灵的工作，罪不得赦，犹太人将被上帝所弃。取而代之的是所有相信的人；上帝国的作为，只好转给另外会结果子的园户。这些新的园户就是一切相信接受耶稣基督的人，他们是上帝所召的新约圣会，耶稣基督的身体。恶园户的比喻，对犹太人是一项严重的警告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这比喻并不是预告伊斯兰的兴起，而是预告：那些相信耶稣就是弥赛亚（基督），且悔改接受耶稣在十字架上完成救赎的人。不论他们是犹太人或者是外邦人，他们要成为上帝所召的圣会（来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2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又称为基督的身体（林前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2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教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1-23)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上帝的家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6)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9E25-5C58-4FE8-92C4-3C29EF429F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0"/>
            <a:ext cx="1219212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的律法还没鉴定下来以前；真主在他主权的拣选下，曾容许把后面所生的儿子，立于长子的名分与祝福里。真主曾对他这作法如此解释说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我要恩待谁，就恩待谁，要怜恤谁，就怜恤谁」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伯拉罕的妻子撒拉，曾对亚伯拉罕说：「把使女的和她所生的儿子（夏甲所生的长子以实玛利）赶出去。因为使女所生的儿子，不可与我的儿子以撒一同承受产业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如何判定这件事呢？上帝对亚伯拉罕说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凡撒拉对你所说的话，你都该听从。因为从以撒（次子）所生的，才要称为你的后裔（创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1:8-1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3B08-5704-4CC1-B064-7C5BDDF077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0"/>
            <a:ext cx="121921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升天大概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以后，来到五旬节，圣灵降下来，充满在门徒身上，他们就得着能力，成立了教会。四十年的时间，在犹太全地及各地传扬福音。到主后七十年，不信的犹太人起来搞革命。历史告诉我们，他们的耶路撒冷包挂圣殿於纪元七十年被毁，到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全国被毁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的人以上帝的召会存在，继续传扬天国的福音。由于犹太国被毁灭，犹太人被赶散在世界各地，信基督的人渐渐以外邦人居多。他们成为上帝国度的新园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徒保罗在未归信耶稣基督以前，是犹太教中有名的教师。于主后四十二年归信基督得救以后，得到上帝特殊的启示，。他给这段经文作了清楚的注释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986B-83AC-4288-B93D-326DD2C982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0" y="0"/>
            <a:ext cx="12144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且说：他们（犹太人）失脚是要他们跌倒么？断乎不是。反倒因他们的过失，救恩便临到外邦人中，为要激动他们发愤。若他们的过失，成为天下人的富足，他们是缺乏，成为外邦人富足；何况他们的丰满呢（罗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:11-1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？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所以你们应当记念你们从前按肉体说是外邦人，是称为没有受割礼的，这名是那些凭人手在肉身上称为受割礼之人所起的。那时你们与基督无关，在以色列国民以外，在所应许的诸约上是局外人。并且活在世上没有指望，没有上帝。你们从前远离上帝的人，如今却在基督耶稣里面靠着他的血已经得亲近了。因此，他使我们和睦，将两下合而为一，拆毁了中间隔断的墙。而且以自己的身体废掉冤仇，就是那记载在律法上的规条。为要将两下藉着自己造就一个新人」 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8497-0784-4F85-B764-E70EE57C80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0" y="0"/>
            <a:ext cx="12192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如此，便成就了和睦。既在十字架上灭了冤仇，便藉这十字架使两下归为一体，与上帝和好了。并且来传和平的福音给你们远处的人，也给那些近处的人。因为，我们两下藉着他被一个圣灵所感；得以进到父上帝面前（弗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:11-18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奥秘在以前的世代没有人知道，如今藉着圣灵启示使徒和先知；这奥秘就是，外邦人在基督耶稣里藉着福音得以同为后嗣，同为一体，同蒙应许（弗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5-6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后；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他们唱新歌说：你配拿书卷，配揭开七印。因为你曾被杀，用自己的血，从各族各方，各民各初中买了人来，叫他们归于上帝。又叫他们成为国民，作祭司归于上帝，在地上执掌王权（启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9-10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A273-47A8-4810-97DA-8BEDDE5415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0" y="0"/>
            <a:ext cx="12192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0)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斯兰认为经文：「匠人所弃的石头，已作了房角的头块石头」，是预告伊斯兰被设立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42,4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匠人所弃的石头，己作了房角的头块石头，这是主所作的，在我们眼中看为希奇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谁掉在这石头上必要跌碎。这石头掉在谁的身上，就要把谁砸得稀烂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引自诗篇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8:22-2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的经文。耶稣用这节经文来警戒犹太人的官长；他们本是领袖，是保卫以色列国福利的匠人。可惜他们的民族主义及错误的神学误导了他们，使他们看不见耶稣就是受苦，赎罪的弥赛亚（第一次来临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官长们若继续的拒绝，就会应验大卫在诗篇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8:22-2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预告的。我们从本段经文的下文，清楚看见「匠人所弃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就是指犹太人的官长们 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0222-4E71-4297-8BA0-2235169A2E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0"/>
            <a:ext cx="12192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连当时听见这话的犹太官长们都同意：「祭司长和法利赛人，听见耶稣的比喻，就看出这是指着他们说的（太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4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不但使徒马太如此记载；使徒彼得在官长们的面前解释，为何他能叫一个瘸腿者得痊愈时，也是如此解释这节经文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治民的官府和长老阿，倘若今日因为在残疾人身上所行的善事，查问我们他是如何得了痊愈。你们众人和以色列百姓都当知道，站在你们面前的这人得痊愈，是因你们所钉十字架，上帝叫他从死里复活的拿撒人耶稣的名。他是你们匠人所弃的石头，已成了房角的头块石头。除他以外，别无拯救，因为在天下人间没有赐下别的名，我们可以靠着得救（徒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9-1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C8B4-8F08-43B4-A228-8ADA793AF1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0" y="0"/>
            <a:ext cx="122889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徒保罗向以弗所的教会说：因耶稣基督所成就的救赎大工，  成为建造上帝家的地基，成为神家房角的头块石头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弗所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8-2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我们俩方面藉着他被一个圣灵所感，得以进到父上帝面前。这样你们不再作外人和客旅，是与圣徒同国，是上帝家里的人了。并且被建造在使徒和先知的根基上，有耶稣基督为房角的头块石头。各房靠他联络得合式，渐渐成为主的圣殿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1F7B-5C50-4569-B04B-166C40064E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0"/>
            <a:ext cx="121921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徒彼得在其书信也曾形容：对不信的人，耶稣基督要成为使他们跌倒的石头。对信的人则成为建造灵宫的房角石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主乃活石，固然是被人所弃的却是被上帝所拣选，所宝贵的。你们来到主面前，也就像活石，被建造成为灵宫，作圣洁的祭司，藉着耶稣基督奉献上帝所悦纳的灵祭。因为经上说：看哪，我把所拣选所宝贵的房角石，安放在锡安。信靠他的人，必不至于羞愧。所以他在你们信的人就为宝贵，在那不信的人就有话说：匠人所弃的石头，已作了房角的头块石头。又说：作了绊脚的石头，跌人的磐石（彼前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6-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2E05-2E11-44DB-85CF-B07FCB50AA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0"/>
            <a:ext cx="1219212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徒彼得的这番话，已经指出信与不信之人的预定。世人若貌视耶稣，不接受众先知的预告，认为他不过是个死在十字架上的殉道者，失败者；则他们应验了先知大卫所预告的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匠人所弃的石头，已作了头块的石头；及以赛亚先知的预告：作了绊脚的石头，跌人的石头（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1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世人因见众先知所预言的，应验在耶稣基督身上，谦卑的悔改相信耶稣基督是上帝所指定的唯一救主，是众望所归者；则他们就是属于先知大卫所预告的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匠人所弃的石头已成了房角的头块石头」；及先知以赛亚所预告的：「看哪，我把所拣选的所宝贵的房角石，安放在锡安。信靠他的人，必不至于羞愧（以赛亚先知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BAAE-1884-4D3C-947F-2468E63B14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19160" y="0"/>
            <a:ext cx="120729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结语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接受权威的见证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天所有的传道人，见证人，读经者，诠释圣经者；必须依照上帝已经设立的众先知，及耶稣基督所设立的使徒，以他们的讲解，作为天国启示奥秘及经文诠释的依据。上帝藉着圣经对基督徒说：「你们不再作外人和客旅，是与圣徒同国，是上帝家里的人了。并且被建造在使徒和先知的根基上，有基督耶稣自己为房角石。各房靠他联结得合式，渐渐成为主的圣殿（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9-2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对圣经启示的领受，是基于先知及使徒所立下的根基为依据。当年的使徒如何传讲，我们就要如何去信从。今天基督教会所信所传的，即是依据当年众先知及使徒所遗留下的传统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0A4A-E132-4F06-BFB9-4CD1BAEF3A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0"/>
            <a:ext cx="1219212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对穆斯林，古兰经则定下同样的原则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见证耶稣基督领受了智慧，能力与恩典，连他的门徒也得到安拉的启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wahi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5:110-111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那时候安拉说：马利亚之子尔撒！你要记念我对你母亲的恩典。那时候，我以圣灵加强你；你在摇篮中并在成年的时代对人接谈，那时候我把恩典，智慧，讨喇，引支勒教给你。那时候，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我默示</a:t>
            </a:r>
            <a:r>
              <a:rPr b="1" lang="en-MY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wahi 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众门徒：「你们信我和我的使者」。他们说：「我们信了，求你见证我们确是服从的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任何伊斯兰学者，若要明白上帝藉福音书赐下怎样的启示，则他们也必须依照耶稣基督的使徒，所遗留下的见证与讲解；这是古兰经也同意的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新宋体"/>
              </a:rPr>
              <a:t>问题讨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？？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D877-3BF3-4C79-8892-785530737A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0"/>
            <a:ext cx="12192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一圣经所提供的例子；上帝把雅各（次子）设立于以扫（长子）之上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对利百加（以撒的妻）说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「两国在你腹内，两族要从你出来，这族必强于那族；将来大的（以扫）要服事的小的（雅各）创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5:23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瑟（雅各的小儿子）的儿子当中，也曾有这样的情况。以法连（次子），被立于玛拿西（长子）之上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「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瑟对他父亲（雅各）说：我父不是这样，这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玛拿西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本是长子，求你把右手按在他的头上。他父亲不从，说：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只是他的兄弟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次子以法连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将来比他还大，他兄弟的后裔要成为多族（创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8:17-19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2T12:37:58Z</dcterms:created>
  <dc:creator>Pastor Chan</dc:creator>
  <dc:description/>
  <dc:language>en-US</dc:language>
  <cp:lastModifiedBy>chan HK</cp:lastModifiedBy>
  <dcterms:modified xsi:type="dcterms:W3CDTF">2025-02-27T01:21:55Z</dcterms:modified>
  <cp:revision>81</cp:revision>
  <dc:subject/>
  <dc:title>Slide 1</dc:title>
</cp:coreProperties>
</file>