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0F3-0072-41D8-BECC-53E5938E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E99-631D-44EF-A933-7E232D2A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BEA-8ED1-47FD-B949-9BABFEC7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859-A828-41F5-A42A-3336DDB8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7AE4-5AB2-4AA6-A273-1EB3434B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1AD9-BFFB-4507-B309-44C6034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2F3-8EB2-4AE8-94BF-FE1873D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9A98-F552-46B3-8649-7E0BE18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1A14-680B-4A62-AC58-684B2677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DDC-D36E-4BF2-95A9-1005391C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9C84-4EC7-41E9-A26F-A6E21C9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B5C-D396-40C4-ABF8-A133C4C7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B4F-4371-4F81-B83B-4672FAF1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3E6E-FF22-499B-BF43-9FFE439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FC6-BBA0-49B6-97E0-FCC428D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FE4F-3ACB-4E19-B6C0-43424C58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FD4D-73A2-4662-AF59-DA65AC09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E30F-865A-4A00-89DE-12B7363B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8367-6D1D-4475-A210-D94FF2A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A9B8-173A-49A1-8035-659FE693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9D41-FDBD-43BF-95E8-93AC088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0438-07B5-4CDC-967A-93B5A7A6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764-CF39-48EF-9CB5-E6EC0AF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038B-BC4D-4875-B753-7A5BF260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2B3A-3235-4712-831F-FE93665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461D4-0A29-44E2-9A2D-A0A02D14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736F-281E-4140-A408-EAF2EB28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A09E-0923-4266-BD29-1FC424E4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E53C-560D-4CE3-8776-3377E82A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77A1-C78B-4611-85BF-6863E36C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8D588-71CA-4776-AFDE-9DA5F800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B04E4-2B58-4CC5-B304-65548A7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3B769-AD37-4FB7-B586-68CE9BED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063-6296-4628-922F-920519CC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2FC33-E357-4ADA-AEF2-4E5A2DB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06BED-6ED2-4AE4-9662-944A7689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0BDCB-40D9-4A56-AC77-AFB81E4B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F2B5B-E234-4C59-8D63-68CDBDF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2B795-98F7-451F-B189-A85F18CB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03189-39AF-4AFF-A23F-7E70E5B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52C4B-6253-41CD-B580-A44BF3F7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059A3-0C91-4970-9DDF-0B003F90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82DB8-FBCA-44D6-A29F-4903292B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7E76B-4EF2-48A9-AA7B-F74D6769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FE8-A98E-4D06-A95E-7CD45268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A3C91-E353-41DA-B7BF-67EE3C3E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AF1E4-D6CA-4F91-AEAA-F44B4069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DA9A3-BBBC-4203-9079-6FFDB74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7FDB7-D014-4BE8-827F-AB23F35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541A0-8E64-4115-A4A5-28459D8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FBF50-70C3-480B-B888-12C3CFF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5FC6C-74CB-4DC5-800A-2020C14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AC297-83CA-4139-915B-D5A3355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43563-D7ED-498C-A0AF-62ECB4A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2CEA4-4A22-4DC1-8DD0-FEC569AD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9956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8C1-8A76-4C08-8BA1-5AE0D9D7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584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342560" y="160020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584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342560" y="4146120"/>
            <a:ext cx="32058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86311-7DC0-47DE-971B-7D0F0B14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F80-4CBD-4035-9F22-763E66D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1760" y="414612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8F3-521D-4422-8BB5-4B791C9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1760" y="1600200"/>
            <a:ext cx="4858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46120"/>
            <a:ext cx="99568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EE9-E667-4B47-B552-D708B57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D115-D68D-43D3-9413-5C4502DEB045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1015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762-CF81-4E5C-92E3-DE8D30869983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7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2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6"/>
          <p:cNvSpPr/>
          <p:nvPr/>
        </p:nvSpPr>
        <p:spPr>
          <a:xfrm>
            <a:off x="121521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8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9"/>
          <p:cNvSpPr/>
          <p:nvPr/>
        </p:nvSpPr>
        <p:spPr>
          <a:xfrm>
            <a:off x="1746360" y="4867200"/>
            <a:ext cx="8557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2217600" y="5788080"/>
            <a:ext cx="3668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2540160" y="4495680"/>
            <a:ext cx="48708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10733040" y="111096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278-6BB5-4321-9D79-5CA92EC5893A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10045800" y="411804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76688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A4BE-FBB6-4572-928A-7F97729C4FD6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507960" y="0"/>
            <a:ext cx="81288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68280" y="0"/>
            <a:ext cx="13968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20840" y="0"/>
            <a:ext cx="24300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440" y="0"/>
            <a:ext cx="30636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14112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8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"/>
          <p:cNvSpPr/>
          <p:nvPr/>
        </p:nvSpPr>
        <p:spPr>
          <a:xfrm>
            <a:off x="1138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2"/>
          <p:cNvSpPr/>
          <p:nvPr/>
        </p:nvSpPr>
        <p:spPr>
          <a:xfrm>
            <a:off x="230364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4"/>
          <p:cNvSpPr/>
          <p:nvPr/>
        </p:nvSpPr>
        <p:spPr>
          <a:xfrm>
            <a:off x="142236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625760" y="0"/>
            <a:ext cx="10152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812880" y="3429000"/>
            <a:ext cx="172728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1765440" y="4867200"/>
            <a:ext cx="8571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1454040" y="5500800"/>
            <a:ext cx="18432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2217600" y="5791320"/>
            <a:ext cx="36684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3"/>
          <p:cNvSpPr/>
          <p:nvPr/>
        </p:nvSpPr>
        <p:spPr>
          <a:xfrm>
            <a:off x="2506680" y="4479840"/>
            <a:ext cx="4856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4"/>
          <p:cNvSpPr/>
          <p:nvPr/>
        </p:nvSpPr>
        <p:spPr>
          <a:xfrm>
            <a:off x="1213020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10731240" y="1106280"/>
            <a:ext cx="2286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7D73-5A8F-48B0-9448-2B64FE31E5B7}" type="datetime">
              <a:rPr b="0" lang="en-US" sz="1200" spc="-1" strike="noStrike">
                <a:solidFill>
                  <a:srgbClr val="fff39d"/>
                </a:solidFill>
                <a:latin typeface="Century Schoolbook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10045800" y="4114800"/>
            <a:ext cx="3657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39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39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785960" y="4929120"/>
            <a:ext cx="8128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55D-B8CB-403E-9E69-F7AF494C030E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3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6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9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E2E-072E-4AC8-95F4-CFF09B080C60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472-0AC4-4E8B-8190-FE0A7640D91C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"/>
          <p:cNvSpPr/>
          <p:nvPr/>
        </p:nvSpPr>
        <p:spPr>
          <a:xfrm>
            <a:off x="1168416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0875960" y="5715000"/>
            <a:ext cx="73188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>
            <a:off x="11988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1785680" y="0"/>
            <a:ext cx="40644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8"/>
          <p:cNvSpPr/>
          <p:nvPr/>
        </p:nvSpPr>
        <p:spPr>
          <a:xfrm>
            <a:off x="118872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8"/>
          <p:cNvSpPr/>
          <p:nvPr/>
        </p:nvSpPr>
        <p:spPr>
          <a:xfrm>
            <a:off x="8331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0"/>
          <p:cNvSpPr/>
          <p:nvPr/>
        </p:nvSpPr>
        <p:spPr>
          <a:xfrm>
            <a:off x="825660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995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9956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10453680" y="1017000"/>
            <a:ext cx="201132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512C-E1C5-471E-8AE6-D05FB027162A}" type="datetime">
              <a:rPr b="0" lang="en-US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1083924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555-6B75-4C74-BCF4-C94E8FC92489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119160" y="0"/>
            <a:ext cx="113886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世界最大的未得之民：穆斯林群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面对伊斯兰快速增长的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前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亿信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24=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八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穆斯林居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国已增至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%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人口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若照目前的发展，到了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70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，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有一半的人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诞生于穆斯林家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678-E0F8-49D3-B3C7-C88A455BD107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881600" y="6229440"/>
            <a:ext cx="2519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861-8779-4315-89B8-E7106D8729D8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119160" y="0"/>
            <a:ext cx="117378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8.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进入安息的服事策略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来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:2-4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…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但我们已经相信的人得以进入那安息，正如神所说：我在怒中起誓说：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『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他们断不可进入我的安息！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』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其实造物之工，从创世以来已经成全了。论到第七日，有一处说，「到第七日神就歇了他一切的工。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安息的基本意思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不做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神如何安息？观看他自己的作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耶稣如何有安息的服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约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5:19-20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耶稣对他们说：我实实在在的告诉你们，子凭著自己不能做什麽，惟有看见父所做的，子才能做；父所做的事，子也照样做。父爱子，将自己所作的一切事指给他看，还要将比这更大的事指给他看，叫你们希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516744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A07E-D727-4B3F-B4C3-B0A9A327B25F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92240" y="0"/>
            <a:ext cx="1159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9.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运用与主成为一灵的宣教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林后</a:t>
            </a:r>
            <a:r>
              <a:rPr b="1" lang="en-US" sz="32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3:1-1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3:16-18</a:t>
            </a:r>
            <a:r>
              <a:rPr b="1" lang="zh-TW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 </a:t>
            </a:r>
            <a:r>
              <a:rPr b="1" lang="zh-CN" sz="2800" spc="-1" strike="noStrike">
                <a:solidFill>
                  <a:srgbClr val="7030a0"/>
                </a:solidFill>
                <a:latin typeface="Microsoft JhengHei"/>
                <a:ea typeface="Microsoft JhengHei"/>
              </a:rPr>
              <a:t>但他们的心几时归向主，帕子就几时除去了。主就是那灵；主的灵在那里，那里就得以自由。我们众人既然敞著脸得以看见主的荣光，好像从镜子里反照，就变成主的形状，荣上加荣，如同从主的灵变成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自己先除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掉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帕子，敞着脸见主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领受主的心思意念，与主成为一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主的灵在那里，那里就得以自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祈祷出来的能力布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509580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FC2E-645C-429C-B3D4-65C194390F14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119160" y="0"/>
            <a:ext cx="1195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结论：穆斯林宣教策略的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从爱心，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明确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呼召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而生发的使徒性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设立坚固差遣基地的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兼顾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经常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引导穆民归信的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手段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何处能接触穆民的策略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同问恶化，次文化，跨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关系布道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: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门徒栽培。一对一，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生，养，教，繁殖的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看透灵界中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种的手段：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以得胜者身份进入宣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8: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进入安息</a:t>
            </a:r>
            <a:r>
              <a:rPr b="1" lang="zh-CN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，观看神作为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: </a:t>
            </a:r>
            <a:r>
              <a:rPr b="1" lang="zh-TW" sz="32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运用与主成为一灵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466740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7CE-6868-4134-B0A0-7B138CF660BA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52388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entury Schoolbook"/>
                <a:ea typeface="经典楷体简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192240" y="428760"/>
            <a:ext cx="11459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基督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已排在伊斯兰后，成为次影响力的宗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月教皇宣布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主教不再是最大的宗教团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ndrew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兄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早在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1994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年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所写的书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“神的走私者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God’s Smuggler”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说</a:t>
            </a:r>
            <a:r>
              <a:rPr b="1" lang="zh-CN" sz="3200" spc="-1" strike="noStrike">
                <a:solidFill>
                  <a:srgbClr val="0033cc"/>
                </a:solidFill>
                <a:latin typeface="Microsoft JhengHei"/>
                <a:ea typeface="Microsoft JhengHei"/>
              </a:rPr>
              <a:t>，“二十一世纪的伊斯兰，将好比二十世纪的共产主义一样风靡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扭转这局势的唯一希望，除非基督教会宣教的全面复兴，兴起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对穆斯林的宣教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531036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A505-C304-44ED-98A4-43E196875DCB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19160" y="0"/>
            <a:ext cx="116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今日与明日的伊斯兰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1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从爱心，呼召而生发的使徒性宣教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不是因为比较困难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少人做，所以想冒险一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而是有从主来的呼召与异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然而，没有奉差遣的，岂能传道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当走的路，我已跑尽了，故此，我没有违背从天上来的异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最有能力的</a:t>
            </a:r>
            <a:r>
              <a:rPr b="1" lang="zh-CN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宣教</a:t>
            </a:r>
            <a:r>
              <a:rPr b="1" lang="zh-TW" sz="32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策略，来自你内心的呼召与看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4667400" y="6492960"/>
            <a:ext cx="242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6FF5-09D7-4481-91B7-37AFD093D44D}" type="slidenum">
              <a:rPr b="1" lang="en-SG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19160" y="0"/>
            <a:ext cx="1153296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2. </a:t>
            </a:r>
            <a:r>
              <a:rPr b="1" lang="zh-TW" sz="3000" spc="-1" strike="noStrike">
                <a:solidFill>
                  <a:srgbClr val="c00000"/>
                </a:solidFill>
                <a:latin typeface="Microsoft JhengHei"/>
                <a:ea typeface="Microsoft JhengHei"/>
              </a:rPr>
              <a:t>设立坚固差遣与扶持的基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Microsoft JhengHei"/>
                <a:ea typeface="Microsoft JhengHei"/>
              </a:rPr>
              <a:t>保罗的跨文化宣教：圣灵透过教会差遣出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徒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13:1-3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在安提阿的教会中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..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他们事奉主、禁食的时候，圣灵说：要为我分派巴拿巴和扫罗，去做我召他们所做的工。於是禁食祷告，按手在他们头上，就打发他们去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提阿教会，腓力比教会，马其顿教会等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都曾赞助了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初熟果子在成形的过程，可能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遇见非常的压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效法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十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七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纪欧美宣教的基地差遣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模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会众制教会的宣教士差遣，配合前线差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4452840" y="649296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华文中宋"/>
                <a:ea typeface="华文中宋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542-6C2D-48E5-8867-82F61FA415D4}" type="slidenum">
              <a:rPr b="1" lang="en-SG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0" y="0"/>
            <a:ext cx="11783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留意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圣灵引导穆民归信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Ａ穆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圣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Ｂ看见基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督徒的自由，正直与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Ｃ经历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异梦与异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Ｄ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经历权能的布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救恩确据的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502452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华文中宋"/>
                <a:ea typeface="华文中宋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070-03E4-43EF-99E1-4DF37ECA96DA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192240" y="0"/>
            <a:ext cx="1152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认识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何处能接触穆民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Ａ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中东的穆斯林世界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进入风暴圈 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跨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B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中国的十个穆民群体</a:t>
            </a: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同文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Ｃ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世界各地穆斯林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世界各地都有华人教会（次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Ｄ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）欧美的桥头堡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华人教会与穆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留学生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次文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4952880" y="6500880"/>
            <a:ext cx="3200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DE77-A5FC-4E61-A328-AF70E139BC9F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192240" y="0"/>
            <a:ext cx="1130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5 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妥善使用</a:t>
            </a:r>
            <a:r>
              <a:rPr b="1" lang="zh-CN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关系布道的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Ａ成为穆斯林去得穆斯林：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传纯正的福音信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Ｂ对穆民开放的家庭：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穆民文化与清真的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Ｃ强盛的选择性家庭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探访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与代求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至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8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个家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Ｄ留意宣教士的工作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寿命：</a:t>
            </a:r>
            <a:r>
              <a:rPr b="1" lang="en-US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4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到八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516744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2CA3-2299-40B5-A371-E981F703A670}" type="slidenum">
              <a:rPr b="1" lang="en-SG" sz="1400" spc="-1" strike="noStrike">
                <a:solidFill>
                  <a:srgbClr val="ffffff"/>
                </a:solidFill>
                <a:latin typeface="Century Schoolbook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92240" y="0"/>
            <a:ext cx="11999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6.</a:t>
            </a:r>
            <a:r>
              <a:rPr b="1" lang="zh-TW" sz="32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运用生，养，教，繁殖的宣教策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Ａ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关系布道，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收割初熟的果了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一对一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培养门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Ｂ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栽培</a:t>
            </a:r>
            <a:r>
              <a:rPr b="1" lang="zh-TW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让果子成为种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C.</a:t>
            </a:r>
            <a:r>
              <a:rPr b="1" lang="zh-CN" sz="32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藉着打发有学习能力的，去接受牧者培训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培养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民族传道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D </a:t>
            </a:r>
            <a:r>
              <a:rPr b="1" lang="zh-CN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藉着名族传道人回来</a:t>
            </a:r>
            <a:r>
              <a:rPr b="1" lang="zh-TW" sz="32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：</a:t>
            </a:r>
            <a:r>
              <a:rPr b="1" lang="zh-TW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建立穆民的家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教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 </a:t>
            </a:r>
            <a:r>
              <a:rPr b="1" lang="zh-CN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藉民族传道人，成立民族领袖培训中心：带出生，养，教，繁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4738680" y="64929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75f6d"/>
                </a:solidFill>
                <a:latin typeface="Century Schoolbook"/>
                <a:ea typeface="宋体"/>
              </a:rPr>
              <a:t>对穆斯林宣教的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 rot="5400000">
            <a:off x="9852840" y="3675960"/>
            <a:ext cx="3200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75f6d"/>
                </a:solidFill>
                <a:latin typeface="KaiTi"/>
                <a:ea typeface="KaiTi"/>
              </a:rPr>
              <a:t>对穆斯林宣教的策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10839600" y="573408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195A-354F-498C-90FD-B383739E5915}" type="slidenum">
              <a:rPr b="1" lang="en-SG" sz="1400" spc="-1" strike="noStrike">
                <a:solidFill>
                  <a:srgbClr val="ffffff"/>
                </a:solidFill>
                <a:latin typeface="KaiTi"/>
                <a:ea typeface="KaiT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19160" y="120600"/>
            <a:ext cx="115776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策略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7.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以得胜者身份进入宣教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2:5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-6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当我们死在过犯中的时候，便叫我们与基督一同活过来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…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与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基督耶稣一同复活，一同坐在天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弗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6:12</a:t>
            </a:r>
            <a:r>
              <a:rPr b="1" lang="zh-TW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0099"/>
                </a:solidFill>
                <a:latin typeface="Microsoft JhengHei"/>
                <a:ea typeface="Microsoft JhengHei"/>
              </a:rPr>
              <a:t>因我们并不是与属血气的争战，乃是与那些执政的、掌权的、管辖这幽暗世界的，以及天空属灵气的恶魔争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执政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Arche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元首，先到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, 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主人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用惧怕工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掌权的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exousia</a:t>
            </a: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　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权柄，执行官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谁给你权柄说话做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管辖幽暗世界的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cosmokratos.= 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管理与支配者。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你有资源做事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天空属灵气的恶魔</a:t>
            </a:r>
            <a:r>
              <a:rPr b="1" lang="en-US" sz="3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poneria </a:t>
            </a:r>
            <a:r>
              <a:rPr b="1" lang="en-US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=</a:t>
            </a:r>
            <a:r>
              <a:rPr b="1" lang="zh-TW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污穢，邪恶的灵。</a:t>
            </a:r>
            <a:r>
              <a:rPr b="1" lang="zh-CN" sz="3000" spc="-1" strike="noStrike">
                <a:solidFill>
                  <a:srgbClr val="002060"/>
                </a:solidFill>
                <a:latin typeface="Microsoft JhengHei"/>
                <a:ea typeface="Microsoft JhengHei"/>
              </a:rPr>
              <a:t>藉着福音破除</a:t>
            </a:r>
            <a:r>
              <a:rPr b="1" lang="zh-TW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罪</a:t>
            </a:r>
            <a:r>
              <a:rPr b="1" lang="zh-CN" sz="3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全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启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en-US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12:11</a:t>
            </a:r>
            <a:r>
              <a:rPr b="1" lang="zh-TW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 </a:t>
            </a:r>
            <a:r>
              <a:rPr b="1" lang="zh-CN" sz="3000" spc="-1" strike="noStrike">
                <a:solidFill>
                  <a:srgbClr val="003300"/>
                </a:solidFill>
                <a:latin typeface="Microsoft JhengHei"/>
                <a:ea typeface="Microsoft JhengHei"/>
              </a:rPr>
              <a:t>弟兄胜过他，是因羔羊的血和自己所见证的道。他们虽至於死，也不爱惜性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9:34:31Z</dcterms:created>
  <dc:creator>pastor chan</dc:creator>
  <dc:description/>
  <dc:language>en-US</dc:language>
  <cp:lastModifiedBy>chan HK</cp:lastModifiedBy>
  <dcterms:modified xsi:type="dcterms:W3CDTF">2025-01-03T13:34:16Z</dcterms:modified>
  <cp:revision>37</cp:revision>
  <dc:subject/>
  <dc:title>Slide 1</dc:title>
</cp:coreProperties>
</file>