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3.wmf" ContentType="image/x-wmf"/>
  <Override PartName="/ppt/media/Musica%20Error.wav" ContentType="audio/x-wav"/>
  <Override PartName="/ppt/media/Jungle%20Open.wav" ContentType="audio/x-wav"/>
  <Override PartName="/ppt/media/Utopia%20Question.wav" ContentType="audio/x-wav"/>
  <Override PartName="/ppt/media/image2.wmf" ContentType="image/x-wmf"/>
  <Override PartName="/ppt/media/Musica%20Maximize.wav" ContentType="audio/x-wav"/>
  <Override PartName="/ppt/media/WHOOSH.WAV" ContentType="audio/x-wav"/>
  <Override PartName="/ppt/media/Musica%20Critical%20Stop.wav" ContentType="audio/x-wav"/>
  <Override PartName="/ppt/media/Musica%20Close.wav" ContentType="audio/x-wav"/>
  <Override PartName="/ppt/media/Jungle%20Exclamation.wav" ContentType="audio/x-wav"/>
  <Override PartName="/ppt/media/image8.wmf" ContentType="image/x-wmf"/>
  <Override PartName="/ppt/media/image7.wmf" ContentType="image/x-wmf"/>
  <Override PartName="/ppt/media/Jungle%20Menu%20Popup.wav" ContentType="audio/x-wav"/>
  <Override PartName="/ppt/media/IR_NEW.WAV" ContentType="audio/x-wav"/>
  <Override PartName="/ppt/media/image6.wmf" ContentType="image/x-wmf"/>
  <Override PartName="/ppt/media/Musica%20Default.wav" ContentType="audio/x-wav"/>
  <Override PartName="/ppt/media/image4.wmf" ContentType="image/x-wmf"/>
  <Override PartName="/ppt/media/Musica%20Minimize.wav" ContentType="audio/x-wav"/>
  <Override PartName="/ppt/media/CHORD.WAV" ContentType="audio/x-wav"/>
  <Override PartName="/ppt/media/IR_INTER.WAV" ContentType="audio/x-wav"/>
  <Override PartName="/ppt/media/image1.wmf" ContentType="image/x-wmf"/>
  <Override PartName="/ppt/media/TADA.WAV" ContentType="audio/x-wav"/>
  <Override PartName="/ppt/media/Musica%20Asterisk.wav" ContentType="audio/x-wav"/>
  <Override PartName="/ppt/media/image5.wmf" ContentType="image/x-wmf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12193588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5560" y="742680"/>
            <a:ext cx="661968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0280" y="4716000"/>
            <a:ext cx="48877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8757E-55FC-418E-B2F7-2C5D6ECD7B37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1031"/>
          <p:cNvSpPr/>
          <p:nvPr/>
        </p:nvSpPr>
        <p:spPr>
          <a:xfrm>
            <a:off x="378000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FD26A-FE4F-4E83-B1BF-2E148A626F1A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25560" y="743040"/>
            <a:ext cx="6619680" cy="37242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890280" y="4716000"/>
            <a:ext cx="48877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25560" y="743040"/>
            <a:ext cx="6619680" cy="37242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890280" y="4716000"/>
            <a:ext cx="48877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灯片编号占位符 3"/>
          <p:cNvSpPr/>
          <p:nvPr/>
        </p:nvSpPr>
        <p:spPr>
          <a:xfrm>
            <a:off x="378000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9DF7D-5F12-49C5-9611-2D08D2A11DA5}" type="slidenum">
              <a:rPr b="0" lang="zh-CN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9E7C-8F1C-4455-BEB9-7A9525CD7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103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040" y="4130640"/>
            <a:ext cx="103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07AF-40B5-42FD-9680-A5AF9AF8B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505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4400" y="1981080"/>
            <a:ext cx="505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130640"/>
            <a:ext cx="505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4400" y="4130640"/>
            <a:ext cx="505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651C-5953-48E0-825F-94B78F0AB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333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18280" y="1981080"/>
            <a:ext cx="333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22160" y="1981080"/>
            <a:ext cx="333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040" y="4130640"/>
            <a:ext cx="333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418280" y="4130640"/>
            <a:ext cx="333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22160" y="4130640"/>
            <a:ext cx="333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0633-FE3E-4132-A710-FFA5856C5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040" y="1981080"/>
            <a:ext cx="10363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AA51-CBEC-431E-AD27-EADB75BC5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1036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EC11-B55D-4A11-9F85-5596F3740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505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4400" y="1981080"/>
            <a:ext cx="505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B4B1-BEBB-46F7-8DCB-ED68F31DB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EA60-DE92-412A-8507-8583A9677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10363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DEAF-F028-44CB-916F-C5EF0FB95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505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4400" y="1981080"/>
            <a:ext cx="505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040" y="4130640"/>
            <a:ext cx="505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6C9F-3FCA-4FE3-B752-F317E5EB7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505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4400" y="1981080"/>
            <a:ext cx="505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4400" y="4130640"/>
            <a:ext cx="505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4B44-8328-4CD5-A43B-DD1E8AD6A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505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4400" y="1981080"/>
            <a:ext cx="505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040" y="4130640"/>
            <a:ext cx="103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FE60-5931-43EC-BD89-8F5E9033B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040" y="1981080"/>
            <a:ext cx="1036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6248520"/>
            <a:ext cx="2540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57FA9-8706-455B-88AA-25A83C47DFFC}" type="datetime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115/0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248520"/>
            <a:ext cx="2540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FC3EC-F0F3-47DF-A378-F9D8DB95B7B9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Musica%20Error.wav"/><Relationship Id="rId3" Type="http://schemas.openxmlformats.org/officeDocument/2006/relationships/audio" Target="../media/Musica%20Close.wav"/><Relationship Id="rId4" Type="http://schemas.openxmlformats.org/officeDocument/2006/relationships/audio" Target="../media/Musica%20Critical%20Stop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Musica%20Error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Jungle%20Menu%20Popup.wav"/><Relationship Id="rId2" Type="http://schemas.openxmlformats.org/officeDocument/2006/relationships/audio" Target="../media/CHORD.WAV"/><Relationship Id="rId3" Type="http://schemas.openxmlformats.org/officeDocument/2006/relationships/audio" Target="../media/CHORD.WAV"/><Relationship Id="rId4" Type="http://schemas.openxmlformats.org/officeDocument/2006/relationships/audio" Target="../media/CHORD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Musica%20Close.wav"/><Relationship Id="rId3" Type="http://schemas.openxmlformats.org/officeDocument/2006/relationships/audio" Target="../media/Musica%20Critical%20Stop.wav"/><Relationship Id="rId4" Type="http://schemas.openxmlformats.org/officeDocument/2006/relationships/audio" Target="../media/Musica%20Critical%20Stop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Musica%20Default.wav"/><Relationship Id="rId2" Type="http://schemas.openxmlformats.org/officeDocument/2006/relationships/audio" Target="../media/Musica%20Asterisk.wav"/><Relationship Id="rId3" Type="http://schemas.openxmlformats.org/officeDocument/2006/relationships/audio" Target="../media/Musica%20Asterisk.wav"/><Relationship Id="rId4" Type="http://schemas.openxmlformats.org/officeDocument/2006/relationships/audio" Target="../media/Musica%20Asterisk.wav"/><Relationship Id="rId5" Type="http://schemas.openxmlformats.org/officeDocument/2006/relationships/audio" Target="../media/Musica%20Asterisk.wav"/><Relationship Id="rId6" Type="http://schemas.openxmlformats.org/officeDocument/2006/relationships/audio" Target="../media/Musica%20Asterisk.wav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audio" Target="../media/Musica%20Asterisk.wav"/><Relationship Id="rId5" Type="http://schemas.openxmlformats.org/officeDocument/2006/relationships/audio" Target="../media/Musica%20Asterisk.wav"/><Relationship Id="rId6" Type="http://schemas.openxmlformats.org/officeDocument/2006/relationships/audio" Target="../media/CHORD.WAV"/><Relationship Id="rId7" Type="http://schemas.openxmlformats.org/officeDocument/2006/relationships/audio" Target="../media/CHORD.WAV"/><Relationship Id="rId8" Type="http://schemas.openxmlformats.org/officeDocument/2006/relationships/audio" Target="../media/CHORD.WAV"/><Relationship Id="rId9" Type="http://schemas.openxmlformats.org/officeDocument/2006/relationships/audio" Target="../media/CHORD.WAV"/><Relationship Id="rId10" Type="http://schemas.openxmlformats.org/officeDocument/2006/relationships/audio" Target="../media/CHORD.WAV"/><Relationship Id="rId11" Type="http://schemas.openxmlformats.org/officeDocument/2006/relationships/audio" Target="../media/CHORD.WAV"/><Relationship Id="rId12" Type="http://schemas.openxmlformats.org/officeDocument/2006/relationships/audio" Target="../media/CHORD.WAV"/><Relationship Id="rId13" Type="http://schemas.openxmlformats.org/officeDocument/2006/relationships/audio" Target="../media/CHORD.WAV"/><Relationship Id="rId14" Type="http://schemas.openxmlformats.org/officeDocument/2006/relationships/audio" Target="../media/CHORD.WAV"/><Relationship Id="rId15" Type="http://schemas.openxmlformats.org/officeDocument/2006/relationships/audio" Target="../media/IR_NEW.WAV"/><Relationship Id="rId16" Type="http://schemas.openxmlformats.org/officeDocument/2006/relationships/audio" Target="../media/IR_NEW.WAV"/><Relationship Id="rId17" Type="http://schemas.openxmlformats.org/officeDocument/2006/relationships/audio" Target="../media/IR_NEW.WAV"/><Relationship Id="rId1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Musica%20Minimize.wav"/><Relationship Id="rId3" Type="http://schemas.openxmlformats.org/officeDocument/2006/relationships/audio" Target="../media/Musica%20Default.wav"/><Relationship Id="rId4" Type="http://schemas.openxmlformats.org/officeDocument/2006/relationships/audio" Target="../media/Musica%20Default.wav"/><Relationship Id="rId5" Type="http://schemas.openxmlformats.org/officeDocument/2006/relationships/audio" Target="../media/Musica%20Default.wav"/><Relationship Id="rId6" Type="http://schemas.openxmlformats.org/officeDocument/2006/relationships/audio" Target="../media/Musica%20Default.wav"/><Relationship Id="rId7" Type="http://schemas.openxmlformats.org/officeDocument/2006/relationships/audio" Target="../media/Musica%20Default.wav"/><Relationship Id="rId8" Type="http://schemas.openxmlformats.org/officeDocument/2006/relationships/audio" Target="../media/Musica%20Close.wav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Musica%20Close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TADA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Musica%20Asterisk.wav"/><Relationship Id="rId2" Type="http://schemas.openxmlformats.org/officeDocument/2006/relationships/audio" Target="../media/Musica%20Maximize.wav"/><Relationship Id="rId3" Type="http://schemas.openxmlformats.org/officeDocument/2006/relationships/audio" Target="../media/Musica%20Maximize.wav"/><Relationship Id="rId4" Type="http://schemas.openxmlformats.org/officeDocument/2006/relationships/audio" Target="../media/Musica%20Maximize.wav"/><Relationship Id="rId5" Type="http://schemas.openxmlformats.org/officeDocument/2006/relationships/audio" Target="../media/Musica%20Maximize.wav"/><Relationship Id="rId6" Type="http://schemas.openxmlformats.org/officeDocument/2006/relationships/audio" Target="../media/Musica%20Maximize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Utopia%20Question.wav"/><Relationship Id="rId3" Type="http://schemas.openxmlformats.org/officeDocument/2006/relationships/audio" Target="../media/Utopia%20Question.wav"/><Relationship Id="rId4" Type="http://schemas.openxmlformats.org/officeDocument/2006/relationships/audio" Target="../media/Utopia%20Question.wav"/><Relationship Id="rId5" Type="http://schemas.openxmlformats.org/officeDocument/2006/relationships/audio" Target="../media/Utopia%20Question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Jungle%20Open.wav"/><Relationship Id="rId2" Type="http://schemas.openxmlformats.org/officeDocument/2006/relationships/audio" Target="../media/TADA.WAV"/><Relationship Id="rId3" Type="http://schemas.openxmlformats.org/officeDocument/2006/relationships/audio" Target="../media/Utopia%20Question.wav"/><Relationship Id="rId4" Type="http://schemas.openxmlformats.org/officeDocument/2006/relationships/audio" Target="../media/Utopia%20Question.wav"/><Relationship Id="rId5" Type="http://schemas.openxmlformats.org/officeDocument/2006/relationships/audio" Target="../media/Utopia%20Question.wav"/><Relationship Id="rId6" Type="http://schemas.openxmlformats.org/officeDocument/2006/relationships/audio" Target="../media/Utopia%20Question.wav"/><Relationship Id="rId7" Type="http://schemas.openxmlformats.org/officeDocument/2006/relationships/audio" Target="../media/Utopia%20Question.wav"/><Relationship Id="rId8" Type="http://schemas.openxmlformats.org/officeDocument/2006/relationships/audio" Target="../media/Utopia%20Question.wav"/><Relationship Id="rId9" Type="http://schemas.openxmlformats.org/officeDocument/2006/relationships/audio" Target="../media/Utopia%20Question.wav"/><Relationship Id="rId10" Type="http://schemas.openxmlformats.org/officeDocument/2006/relationships/audio" Target="../media/Utopia%20Question.wav"/><Relationship Id="rId11" Type="http://schemas.openxmlformats.org/officeDocument/2006/relationships/audio" Target="../media/Utopia%20Question.wav"/><Relationship Id="rId12" Type="http://schemas.openxmlformats.org/officeDocument/2006/relationships/audio" Target="../media/Utopia%20Question.wav"/><Relationship Id="rId13" Type="http://schemas.openxmlformats.org/officeDocument/2006/relationships/audio" Target="../media/Utopia%20Question.wav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Jungle%20Exclamation.wav"/><Relationship Id="rId2" Type="http://schemas.openxmlformats.org/officeDocument/2006/relationships/audio" Target="../media/Utopia%20Question.wav"/><Relationship Id="rId3" Type="http://schemas.openxmlformats.org/officeDocument/2006/relationships/audio" Target="../media/Utopia%20Question.wav"/><Relationship Id="rId4" Type="http://schemas.openxmlformats.org/officeDocument/2006/relationships/audio" Target="../media/Utopia%20Question.wav"/><Relationship Id="rId5" Type="http://schemas.openxmlformats.org/officeDocument/2006/relationships/audio" Target="../media/Utopia%20Question.wav"/><Relationship Id="rId6" Type="http://schemas.openxmlformats.org/officeDocument/2006/relationships/audio" Target="../media/Utopia%20Question.wav"/><Relationship Id="rId7" Type="http://schemas.openxmlformats.org/officeDocument/2006/relationships/audio" Target="../media/Utopia%20Question.wav"/><Relationship Id="rId8" Type="http://schemas.openxmlformats.org/officeDocument/2006/relationships/audio" Target="../media/Utopia%20Question.wav"/><Relationship Id="rId9" Type="http://schemas.openxmlformats.org/officeDocument/2006/relationships/audio" Target="../media/Utopia%20Question.wav"/><Relationship Id="rId10" Type="http://schemas.openxmlformats.org/officeDocument/2006/relationships/audio" Target="../media/Utopia%20Question.wav"/><Relationship Id="rId11" Type="http://schemas.openxmlformats.org/officeDocument/2006/relationships/audio" Target="../media/Utopia%20Question.wav"/><Relationship Id="rId12" Type="http://schemas.openxmlformats.org/officeDocument/2006/relationships/audio" Target="../media/Utopia%20Question.wav"/><Relationship Id="rId13" Type="http://schemas.openxmlformats.org/officeDocument/2006/relationships/audio" Target="../media/Utopia%20Question.wav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audio" Target="../media/TADA.WAV"/><Relationship Id="rId4" Type="http://schemas.openxmlformats.org/officeDocument/2006/relationships/audio" Target="../media/IR_INTER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灯片编号占位符 3"/>
          <p:cNvSpPr/>
          <p:nvPr/>
        </p:nvSpPr>
        <p:spPr>
          <a:xfrm>
            <a:off x="8737560" y="6248520"/>
            <a:ext cx="254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DAAD9-218A-4D67-B560-226578F4F88D}" type="slidenum">
              <a:rPr b="0" lang="zh-TW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1752480" y="0"/>
            <a:ext cx="8534520" cy="16304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效法基督完成大使命的：门徒策略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拥有一个成全信徒的栽培制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119160" y="2057400"/>
            <a:ext cx="978696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华文中宋"/>
                <a:ea typeface="华文中宋"/>
              </a:rPr>
              <a:t>I</a:t>
            </a:r>
            <a:r>
              <a:rPr b="1" lang="zh-CN" sz="3600" spc="-1" strike="noStrike">
                <a:solidFill>
                  <a:srgbClr val="3333cc"/>
                </a:solidFill>
                <a:latin typeface="华文中宋"/>
                <a:ea typeface="华文中宋"/>
              </a:rPr>
              <a:t>）效法基督扩展神国的方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华文中宋"/>
                <a:ea typeface="华文中宋"/>
              </a:rPr>
              <a:t>☆</a:t>
            </a:r>
            <a:r>
              <a:rPr b="1" lang="zh-CN" sz="3600" spc="-1" strike="noStrike">
                <a:solidFill>
                  <a:srgbClr val="3333cc"/>
                </a:solidFill>
                <a:latin typeface="华文中宋"/>
                <a:ea typeface="华文中宋"/>
              </a:rPr>
              <a:t>他的时间：只有三年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华文中宋"/>
                <a:ea typeface="华文中宋"/>
              </a:rPr>
              <a:t>☆</a:t>
            </a:r>
            <a:r>
              <a:rPr b="1" lang="zh-CN" sz="3600" spc="-1" strike="noStrike">
                <a:solidFill>
                  <a:srgbClr val="3333cc"/>
                </a:solidFill>
                <a:latin typeface="华文中宋"/>
                <a:ea typeface="华文中宋"/>
              </a:rPr>
              <a:t>他的信心：放在十二门徒身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华文中宋"/>
                <a:ea typeface="华文中宋"/>
              </a:rPr>
              <a:t>☆</a:t>
            </a:r>
            <a:r>
              <a:rPr b="1" lang="zh-CN" sz="3600" spc="-1" strike="noStrike">
                <a:solidFill>
                  <a:srgbClr val="3333cc"/>
                </a:solidFill>
                <a:latin typeface="华文中宋"/>
                <a:ea typeface="华文中宋"/>
              </a:rPr>
              <a:t>他的战略：在忠心者身上做深度训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华文中宋"/>
                <a:ea typeface="华文中宋"/>
              </a:rPr>
              <a:t>☆</a:t>
            </a:r>
            <a:r>
              <a:rPr b="1" lang="zh-CN" sz="3600" spc="-1" strike="noStrike">
                <a:solidFill>
                  <a:srgbClr val="3333cc"/>
                </a:solidFill>
                <a:latin typeface="华文中宋"/>
                <a:ea typeface="华文中宋"/>
              </a:rPr>
              <a:t>他的目标：在忠心者身上重复生命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Object 4" descr=""/>
          <p:cNvPicPr/>
          <p:nvPr/>
        </p:nvPicPr>
        <p:blipFill>
          <a:blip r:embed="rId1"/>
          <a:stretch/>
        </p:blipFill>
        <p:spPr>
          <a:xfrm>
            <a:off x="7696080" y="1752480"/>
            <a:ext cx="2768760" cy="28101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1523880" y="6172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耶稣用最多时间训练将来承担最大责任的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Musica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usica%20Clo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Musica%20Critical%20St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灯片编号占位符 3"/>
          <p:cNvSpPr/>
          <p:nvPr/>
        </p:nvSpPr>
        <p:spPr>
          <a:xfrm>
            <a:off x="8737560" y="6248520"/>
            <a:ext cx="254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49955-DE69-42D2-87A7-113B3DC7BCF3}" type="slidenum">
              <a:rPr b="1" lang="zh-TW" sz="1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334800" y="1143000"/>
            <a:ext cx="115938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＊认识救恩，基督是主，悔改与重生，圣灵充满，灵修，祷告，读经，洗礼，圣餐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Microsoft JhengHei"/>
                <a:ea typeface="Microsoft JhengHei"/>
              </a:rPr>
              <a:t>＊我们教会的宣言：</a:t>
            </a:r>
            <a:r>
              <a:rPr b="1" lang="zh-CN" sz="36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目标，异象，信仰，   价值的宣言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Microsoft JhengHei"/>
                <a:ea typeface="Microsoft JhengHei"/>
              </a:rPr>
              <a:t>＊我们教会的策略：</a:t>
            </a:r>
            <a:r>
              <a:rPr b="1" lang="zh-CN" sz="36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从布道至成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＊</a:t>
            </a:r>
            <a:r>
              <a:rPr b="1" lang="zh-CN" sz="3600" spc="-1" strike="noStrike">
                <a:solidFill>
                  <a:srgbClr val="0070c0"/>
                </a:solidFill>
                <a:latin typeface="Microsoft JhengHei"/>
                <a:ea typeface="Microsoft JhengHei"/>
              </a:rPr>
              <a:t>我们教会的结构：</a:t>
            </a:r>
            <a:r>
              <a:rPr b="1" lang="zh-CN" sz="36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如何藉组织而成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＊</a:t>
            </a:r>
            <a:r>
              <a:rPr b="1" lang="zh-CN" sz="3600" spc="-1" strike="noStrike">
                <a:solidFill>
                  <a:srgbClr val="0070c0"/>
                </a:solidFill>
                <a:latin typeface="Microsoft JhengHei"/>
                <a:ea typeface="Microsoft JhengHei"/>
              </a:rPr>
              <a:t>会友心得测验：</a:t>
            </a:r>
            <a:r>
              <a:rPr b="1" lang="zh-CN" sz="36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洗礼前，对教会的异象宣言，结构，策略的认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1523880" y="0"/>
            <a:ext cx="9144000" cy="642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课程（一）：领人进入会藉（得新生命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Musica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灯片编号占位符 3"/>
          <p:cNvSpPr/>
          <p:nvPr/>
        </p:nvSpPr>
        <p:spPr>
          <a:xfrm>
            <a:off x="8737560" y="6248520"/>
            <a:ext cx="254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E9F30-76F4-435F-8D9F-55A949B2FC20}" type="slidenum">
              <a:rPr b="1" lang="zh-TW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2"/>
          <p:cNvSpPr/>
          <p:nvPr/>
        </p:nvSpPr>
        <p:spPr>
          <a:xfrm>
            <a:off x="1523880" y="228600"/>
            <a:ext cx="9144000" cy="703440"/>
          </a:xfrm>
          <a:prstGeom prst="rect">
            <a:avLst/>
          </a:prstGeom>
          <a:noFill/>
          <a:ln w="7632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华文中宋"/>
                <a:ea typeface="华文中宋"/>
              </a:rPr>
              <a:t>课程（二）领人进入成熟（培养生命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1981080" y="121932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cc"/>
                </a:solidFill>
                <a:latin typeface="华文中宋"/>
                <a:ea typeface="华文中宋"/>
              </a:rPr>
              <a:t>I</a:t>
            </a:r>
            <a:r>
              <a:rPr b="1" lang="zh-CN" sz="3600" spc="-1" strike="noStrike">
                <a:solidFill>
                  <a:srgbClr val="cc00cc"/>
                </a:solidFill>
                <a:latin typeface="华文中宋"/>
                <a:ea typeface="华文中宋"/>
              </a:rPr>
              <a:t>）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课程必须能提高委身的层次：</a:t>
            </a:r>
            <a:r>
              <a:rPr b="1" lang="zh-CN" sz="3600" spc="-1" strike="noStrike">
                <a:solidFill>
                  <a:srgbClr val="cc00cc"/>
                </a:solidFill>
                <a:latin typeface="华文中宋"/>
                <a:ea typeface="华文中宋"/>
              </a:rPr>
              <a:t>有信心的要求委身于明确目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1981080" y="30481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II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）课程要能建立起灵命与新习惯</a:t>
            </a:r>
            <a:r>
              <a:rPr b="1" lang="zh-CN" sz="3600" spc="-1" strike="noStrike">
                <a:solidFill>
                  <a:srgbClr val="cc00cc"/>
                </a:solidFill>
                <a:latin typeface="华文中宋"/>
                <a:ea typeface="华文中宋"/>
              </a:rPr>
              <a:t>：敬拜，祷告，奉献，团体，读经，爱心付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1828800" y="480060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III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）课程的内容必须是均衡的：</a:t>
            </a:r>
            <a:r>
              <a:rPr b="1" lang="zh-CN" sz="3600" spc="-1" strike="noStrike">
                <a:solidFill>
                  <a:srgbClr val="cc00cc"/>
                </a:solidFill>
                <a:latin typeface="华文中宋"/>
                <a:ea typeface="华文中宋"/>
              </a:rPr>
              <a:t>知识，透视，确信，技巧，品格，繁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0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ungle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OR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OR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OR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灯片编号占位符 3"/>
          <p:cNvSpPr/>
          <p:nvPr/>
        </p:nvSpPr>
        <p:spPr>
          <a:xfrm>
            <a:off x="8737560" y="6248520"/>
            <a:ext cx="254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1AA50-872E-401C-835F-871ED92E3476}" type="slidenum">
              <a:rPr b="0" lang="zh-TW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3429000" y="380880"/>
            <a:ext cx="4952880" cy="70344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课程（二）内容设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1523880" y="1600200"/>
            <a:ext cx="91440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★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灵命成熟与习惯  ★如何领受「灵粮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★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进入至圣所          ★祷告生活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★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奉献与管家          ★团体生命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★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教会的布道大计与成熟的教会异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★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你下一步的进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Object 4" descr=""/>
          <p:cNvPicPr/>
          <p:nvPr/>
        </p:nvPicPr>
        <p:blipFill>
          <a:blip r:embed="rId1"/>
          <a:stretch/>
        </p:blipFill>
        <p:spPr>
          <a:xfrm>
            <a:off x="8915400" y="4648320"/>
            <a:ext cx="17524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0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Musica%20Clo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usica%20Critical%20St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Musica%20Critical%20St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灯片编号占位符 3"/>
          <p:cNvSpPr/>
          <p:nvPr/>
        </p:nvSpPr>
        <p:spPr>
          <a:xfrm>
            <a:off x="8737560" y="6248520"/>
            <a:ext cx="254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B91CA-A6AB-422E-BB1D-4AF9A20FD874}" type="slidenum">
              <a:rPr b="0" lang="zh-TW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"/>
          <p:cNvSpPr/>
          <p:nvPr/>
        </p:nvSpPr>
        <p:spPr>
          <a:xfrm>
            <a:off x="1523880" y="228600"/>
            <a:ext cx="9144000" cy="703440"/>
          </a:xfrm>
          <a:prstGeom prst="rect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课程（三）领人进入事工（彰显生命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1752480" y="1295280"/>
            <a:ext cx="4114800" cy="642600"/>
          </a:xfrm>
          <a:prstGeom prst="rect">
            <a:avLst/>
          </a:prstGeom>
          <a:noFill/>
          <a:ln w="57240">
            <a:solidFill>
              <a:srgbClr val="ff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观念的调整与掌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2057400" y="21337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华文中宋"/>
                <a:ea typeface="华文中宋"/>
              </a:rPr>
              <a:t>＊每位信徒都有潜能成为带队的是门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1981080" y="289548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华文中宋"/>
                <a:ea typeface="华文中宋"/>
              </a:rPr>
              <a:t>＊每项教会的服事都要由全体共承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1981080" y="365760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华文中宋"/>
                <a:ea typeface="华文中宋"/>
              </a:rPr>
              <a:t>＊神设计我们相互为别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1981080" y="456876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华文中宋"/>
                <a:ea typeface="华文中宋"/>
              </a:rPr>
              <a:t>＊服事是我们生命功能与特色的表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0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Musica%20Defaul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Musica%20Asteris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1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usica%20Asteris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2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Musica%20Asteris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2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Musica%20Asteris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3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Musica%20Asteris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3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灯片编号占位符 3"/>
          <p:cNvSpPr/>
          <p:nvPr/>
        </p:nvSpPr>
        <p:spPr>
          <a:xfrm>
            <a:off x="8737560" y="6248520"/>
            <a:ext cx="254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BD137-8119-4F27-A8A7-DBB49AABD50E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2"/>
          <p:cNvSpPr/>
          <p:nvPr/>
        </p:nvSpPr>
        <p:spPr>
          <a:xfrm>
            <a:off x="1523880" y="0"/>
            <a:ext cx="9144000" cy="70344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宋体"/>
                <a:ea typeface="宋体"/>
              </a:rPr>
              <a:t>课程（四）领人进入宣教（繁殖生命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1523880" y="29718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从圣经观点看世界宣教：★神国的复兴  ★管家的任务  ★成就的保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1523880" y="434340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从普世需要看世界宣教：★本世纪的骸骨  ★世界未得之民  ★现今的挑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1523880" y="5667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从教会观点看世界宣教：  ★教会在做什么  ★成为大使命教会  ★参与差传事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Object 6"/>
          <p:cNvGraphicFramePr/>
          <p:nvPr/>
        </p:nvGraphicFramePr>
        <p:xfrm>
          <a:off x="4038480" y="0"/>
          <a:ext cx="334332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0"/>
                    <a:ext cx="334332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AutoShape 7"/>
          <p:cNvSpPr/>
          <p:nvPr/>
        </p:nvSpPr>
        <p:spPr>
          <a:xfrm>
            <a:off x="4724280" y="1295280"/>
            <a:ext cx="304920" cy="304920"/>
          </a:xfrm>
          <a:prstGeom prst="plus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8"/>
          <p:cNvSpPr/>
          <p:nvPr/>
        </p:nvSpPr>
        <p:spPr>
          <a:xfrm>
            <a:off x="4419720" y="1752480"/>
            <a:ext cx="304560" cy="304920"/>
          </a:xfrm>
          <a:prstGeom prst="plus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AutoShape 9"/>
          <p:cNvSpPr/>
          <p:nvPr/>
        </p:nvSpPr>
        <p:spPr>
          <a:xfrm>
            <a:off x="5105520" y="1143000"/>
            <a:ext cx="304560" cy="304920"/>
          </a:xfrm>
          <a:prstGeom prst="plus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AutoShape 10"/>
          <p:cNvSpPr/>
          <p:nvPr/>
        </p:nvSpPr>
        <p:spPr>
          <a:xfrm>
            <a:off x="6324480" y="1295280"/>
            <a:ext cx="304920" cy="304920"/>
          </a:xfrm>
          <a:prstGeom prst="plus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AutoShape 11"/>
          <p:cNvSpPr/>
          <p:nvPr/>
        </p:nvSpPr>
        <p:spPr>
          <a:xfrm>
            <a:off x="6858000" y="2057400"/>
            <a:ext cx="304920" cy="304920"/>
          </a:xfrm>
          <a:prstGeom prst="plus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12"/>
          <p:cNvSpPr/>
          <p:nvPr/>
        </p:nvSpPr>
        <p:spPr>
          <a:xfrm>
            <a:off x="5486400" y="2209680"/>
            <a:ext cx="304920" cy="304920"/>
          </a:xfrm>
          <a:prstGeom prst="plus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13"/>
          <p:cNvSpPr/>
          <p:nvPr/>
        </p:nvSpPr>
        <p:spPr>
          <a:xfrm>
            <a:off x="5334120" y="2590920"/>
            <a:ext cx="304560" cy="304560"/>
          </a:xfrm>
          <a:prstGeom prst="plus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14"/>
          <p:cNvSpPr/>
          <p:nvPr/>
        </p:nvSpPr>
        <p:spPr>
          <a:xfrm>
            <a:off x="5334120" y="1752480"/>
            <a:ext cx="304560" cy="304920"/>
          </a:xfrm>
          <a:prstGeom prst="plus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Object 15" descr=""/>
          <p:cNvPicPr/>
          <p:nvPr/>
        </p:nvPicPr>
        <p:blipFill>
          <a:blip r:embed="rId3"/>
          <a:stretch/>
        </p:blipFill>
        <p:spPr>
          <a:xfrm>
            <a:off x="5410080" y="1523880"/>
            <a:ext cx="1143000" cy="10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0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Musica%20Asteris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Musica%20Asteris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OR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OR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OR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7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OR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8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OR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9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OR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9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OR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0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OR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1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OR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IR_NE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IR_NE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IR_NE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灯片编号占位符 3"/>
          <p:cNvSpPr/>
          <p:nvPr/>
        </p:nvSpPr>
        <p:spPr>
          <a:xfrm>
            <a:off x="8737560" y="6248520"/>
            <a:ext cx="254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0759B-3C38-4405-B7F3-7AF1BCF89D3A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Object 2"/>
          <p:cNvGraphicFramePr/>
          <p:nvPr/>
        </p:nvGraphicFramePr>
        <p:xfrm>
          <a:off x="192240" y="0"/>
          <a:ext cx="1180764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240" y="0"/>
                    <a:ext cx="118076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灯片编号占位符 3"/>
          <p:cNvSpPr/>
          <p:nvPr/>
        </p:nvSpPr>
        <p:spPr>
          <a:xfrm>
            <a:off x="8737560" y="6248520"/>
            <a:ext cx="254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58ABA-7C30-41EC-BF7A-7A2BDF3B17DE}" type="slidenum">
              <a:rPr b="1" lang="zh-TW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2"/>
          <p:cNvSpPr/>
          <p:nvPr/>
        </p:nvSpPr>
        <p:spPr>
          <a:xfrm>
            <a:off x="1905120" y="228600"/>
            <a:ext cx="3962160" cy="642600"/>
          </a:xfrm>
          <a:prstGeom prst="rect">
            <a:avLst/>
          </a:prstGeom>
          <a:noFill/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3333cc"/>
                </a:solidFill>
                <a:latin typeface="华文中宋"/>
                <a:ea typeface="华文中宋"/>
              </a:rPr>
              <a:t>其它有效的方法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523880" y="10666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提供在职训练：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五重职分培训；使徒课程， 先知课程，传福音课程，牧师课程，教师课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552680" y="297324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建立一套事工安置的程序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1467000" y="396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建立基本事工准则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1523880" y="493704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提供必要的扶持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1542960" y="557856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定期评估跟进教会的异象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8" descr="CHURCH1"/>
          <p:cNvPicPr/>
          <p:nvPr/>
        </p:nvPicPr>
        <p:blipFill>
          <a:blip r:embed="rId1"/>
          <a:stretch/>
        </p:blipFill>
        <p:spPr>
          <a:xfrm>
            <a:off x="8332920" y="2819520"/>
            <a:ext cx="233496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0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Musica%20Minimi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usica%20Defaul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Musica%20Defaul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Musica%20Defaul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Musica%20Defaul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Musica%20Defaul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Musica%20Clo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灯片编号占位符 3"/>
          <p:cNvSpPr/>
          <p:nvPr/>
        </p:nvSpPr>
        <p:spPr>
          <a:xfrm>
            <a:off x="8737560" y="6248520"/>
            <a:ext cx="254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018A1-DCBF-49CA-A00F-E694064B5411}" type="slidenum">
              <a:rPr b="0" lang="zh-TW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1200240" y="0"/>
            <a:ext cx="9467640" cy="70344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华文中宋"/>
                <a:ea typeface="华文中宋"/>
              </a:rPr>
              <a:t>II</a:t>
            </a:r>
            <a:r>
              <a:rPr b="1" lang="zh-CN" sz="4000" spc="-1" strike="noStrike">
                <a:solidFill>
                  <a:srgbClr val="3333cc"/>
                </a:solidFill>
                <a:latin typeface="华文中宋"/>
                <a:ea typeface="华文中宋"/>
              </a:rPr>
              <a:t>）从使徒行传看初期教会增长秘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407880" y="990720"/>
            <a:ext cx="980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徒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2:41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于是领受他们的人就受了洗。那天约加添了三千个灵魂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407880" y="2286000"/>
            <a:ext cx="1026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徒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2:47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赞美神得众人的喜爱，主将得救的人天天加添给教会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407880" y="3581280"/>
            <a:ext cx="1026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徒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5:14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信而归主的信徒越发更加增添，连男带女很多，到主内 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479520" y="4952880"/>
            <a:ext cx="988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徒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6:1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那时，门徒数目添加（繁殖），而且倍增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2666880" y="62164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华文中宋"/>
                <a:ea typeface="华文中宋"/>
              </a:rPr>
              <a:t>增长  </a:t>
            </a:r>
            <a:r>
              <a:rPr b="1" lang="en-US" sz="3600" spc="-1" strike="noStrike">
                <a:solidFill>
                  <a:srgbClr val="3333cc"/>
                </a:solidFill>
                <a:latin typeface="华文中宋"/>
                <a:ea typeface="华文中宋"/>
              </a:rPr>
              <a:t>+ </a:t>
            </a:r>
            <a:r>
              <a:rPr b="1" lang="zh-CN" sz="3600" spc="-1" strike="noStrike">
                <a:solidFill>
                  <a:srgbClr val="3333cc"/>
                </a:solidFill>
                <a:latin typeface="华文中宋"/>
                <a:ea typeface="华文中宋"/>
              </a:rPr>
              <a:t>门徒训练  </a:t>
            </a:r>
            <a:r>
              <a:rPr b="1" lang="en-US" sz="3600" spc="-1" strike="noStrike">
                <a:solidFill>
                  <a:srgbClr val="3333cc"/>
                </a:solidFill>
                <a:latin typeface="华文中宋"/>
                <a:ea typeface="华文中宋"/>
              </a:rPr>
              <a:t>=</a:t>
            </a:r>
            <a:r>
              <a:rPr b="1" lang="zh-CN" sz="3600" spc="-1" strike="noStrike">
                <a:solidFill>
                  <a:srgbClr val="3333cc"/>
                </a:solidFill>
                <a:latin typeface="华文中宋"/>
                <a:ea typeface="华文中宋"/>
              </a:rPr>
              <a:t>倍增（繁殖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Musica%20Clo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AD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灯片编号占位符 3"/>
          <p:cNvSpPr/>
          <p:nvPr/>
        </p:nvSpPr>
        <p:spPr>
          <a:xfrm>
            <a:off x="8737560" y="6248520"/>
            <a:ext cx="254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9DC15-9F9A-43AE-A717-FD92EC232C79}" type="slidenum">
              <a:rPr b="1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"/>
          <p:cNvSpPr/>
          <p:nvPr/>
        </p:nvSpPr>
        <p:spPr>
          <a:xfrm>
            <a:off x="1752480" y="0"/>
            <a:ext cx="7583760" cy="703440"/>
          </a:xfrm>
          <a:prstGeom prst="rect">
            <a:avLst/>
          </a:prstGeom>
          <a:noFill/>
          <a:ln w="7632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宋体"/>
                <a:ea typeface="宋体"/>
              </a:rPr>
              <a:t>III</a:t>
            </a:r>
            <a:r>
              <a:rPr b="1" lang="zh-CN" sz="4000" spc="-1" strike="noStrike">
                <a:solidFill>
                  <a:srgbClr val="3333cc"/>
                </a:solidFill>
                <a:latin typeface="宋体"/>
                <a:ea typeface="宋体"/>
              </a:rPr>
              <a:t>）效法使徒所追随的方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623880" y="1052640"/>
            <a:ext cx="100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宋体"/>
                <a:ea typeface="宋体"/>
              </a:rPr>
              <a:t>＊巴拿巴：徒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4:36-37 ; 9:27 ; 11:19-2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623880" y="1981080"/>
            <a:ext cx="100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宋体"/>
                <a:ea typeface="宋体"/>
              </a:rPr>
              <a:t>＊保罗：徒</a:t>
            </a:r>
            <a:r>
              <a:rPr b="1" lang="en-US" sz="3600" spc="-1" strike="noStrike">
                <a:solidFill>
                  <a:srgbClr val="ff3300"/>
                </a:solidFill>
                <a:latin typeface="宋体"/>
                <a:ea typeface="宋体"/>
              </a:rPr>
              <a:t>20:4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  <a:ea typeface="宋体"/>
              </a:rPr>
              <a:t>所巴特，亚哩达古，西公都，该犹，提摩太，推基古，特罗非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766800" y="3645000"/>
            <a:ext cx="921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3300"/>
                </a:solidFill>
                <a:latin typeface="宋体"/>
                <a:ea typeface="宋体"/>
              </a:rPr>
              <a:t>＊彼得：徒</a:t>
            </a:r>
            <a:r>
              <a:rPr b="1" lang="en-US" sz="3600" spc="-1" strike="noStrike">
                <a:solidFill>
                  <a:srgbClr val="ff3300"/>
                </a:solidFill>
                <a:latin typeface="宋体"/>
                <a:ea typeface="宋体"/>
              </a:rPr>
              <a:t>13:13</a:t>
            </a:r>
            <a:r>
              <a:rPr b="1" lang="zh-TW" sz="3600" spc="-1" strike="noStrike">
                <a:solidFill>
                  <a:srgbClr val="ff3300"/>
                </a:solidFill>
                <a:latin typeface="宋体"/>
                <a:ea typeface="宋体"/>
              </a:rPr>
              <a:t>；彼前</a:t>
            </a:r>
            <a:r>
              <a:rPr b="1" lang="en-US" sz="3600" spc="-1" strike="noStrike">
                <a:solidFill>
                  <a:srgbClr val="ff3300"/>
                </a:solidFill>
                <a:latin typeface="宋体"/>
                <a:ea typeface="宋体"/>
              </a:rPr>
              <a:t>5:13</a:t>
            </a:r>
            <a:r>
              <a:rPr b="1" lang="zh-TW" sz="3600" spc="-1" strike="noStrike">
                <a:solidFill>
                  <a:srgbClr val="ff3300"/>
                </a:solidFill>
                <a:latin typeface="宋体"/>
                <a:ea typeface="宋体"/>
              </a:rPr>
              <a:t>；提后</a:t>
            </a:r>
            <a:r>
              <a:rPr b="1" lang="en-US" sz="3600" spc="-1" strike="noStrike">
                <a:solidFill>
                  <a:srgbClr val="ff3300"/>
                </a:solidFill>
                <a:latin typeface="宋体"/>
                <a:ea typeface="宋体"/>
              </a:rPr>
              <a:t>4: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766800" y="4648320"/>
            <a:ext cx="967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宋体"/>
                <a:ea typeface="宋体"/>
              </a:rPr>
              <a:t>* 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  <a:ea typeface="宋体"/>
              </a:rPr>
              <a:t>约翰：教父波里甲；徒孙爱任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623880" y="5791320"/>
            <a:ext cx="92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宋体"/>
              </a:rPr>
              <a:t>＊主后四百年这方法渐渐消失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  <a:ea typeface="宋体"/>
              </a:rPr>
              <a:t>……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  <a:ea typeface="宋体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Musica%20Asteris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Musica%20Maximi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usica%20Maximi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Musica%20Maximi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Musica%20Maximi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Musica%20Maximi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灯片编号占位符 3"/>
          <p:cNvSpPr/>
          <p:nvPr/>
        </p:nvSpPr>
        <p:spPr>
          <a:xfrm>
            <a:off x="8737560" y="6248520"/>
            <a:ext cx="254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46C3B-8CB5-4FE4-8B90-A28F54908162}" type="slidenum">
              <a:rPr b="0" lang="zh-TW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1127160" y="66600"/>
            <a:ext cx="7162920" cy="703440"/>
          </a:xfrm>
          <a:prstGeom prst="rect">
            <a:avLst/>
          </a:prstGeom>
          <a:noFill/>
          <a:ln w="572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IV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造就一个门徒有效的方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839880" y="1752480"/>
            <a:ext cx="944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中宋"/>
                <a:ea typeface="华文中宋"/>
              </a:rPr>
              <a:t>门徒的条件</a:t>
            </a:r>
            <a:r>
              <a:rPr b="1" lang="zh-CN" sz="3600" spc="-1" strike="noStrike">
                <a:solidFill>
                  <a:srgbClr val="cc3300"/>
                </a:solidFill>
                <a:latin typeface="华文中宋"/>
                <a:ea typeface="华文中宋"/>
              </a:rPr>
              <a:t>： 忠心，受教，肯承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687240" y="2514600"/>
            <a:ext cx="944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中宋"/>
                <a:ea typeface="华文中宋"/>
              </a:rPr>
              <a:t>造就门徒的基本原则</a:t>
            </a:r>
            <a:r>
              <a:rPr b="1" lang="zh-CN" sz="3600" spc="-1" strike="noStrike">
                <a:solidFill>
                  <a:srgbClr val="cc3300"/>
                </a:solidFill>
                <a:latin typeface="华文中宋"/>
                <a:ea typeface="华文中宋"/>
              </a:rPr>
              <a:t>：生命繁殖生命，必须塑造才成才，搬石头建立正确的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911160" y="3733920"/>
            <a:ext cx="975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中宋"/>
                <a:ea typeface="华文中宋"/>
              </a:rPr>
              <a:t>造就门徒的有效方法</a:t>
            </a:r>
            <a:r>
              <a:rPr b="1" lang="zh-CN" sz="3600" spc="-1" strike="noStrike">
                <a:solidFill>
                  <a:srgbClr val="cc3300"/>
                </a:solidFill>
                <a:latin typeface="华文中宋"/>
                <a:ea typeface="华文中宋"/>
              </a:rPr>
              <a:t>：以个人的关系，相爱，相顾使到彼此得以成长 </a:t>
            </a:r>
            <a:r>
              <a:rPr b="1" lang="en-US" sz="3600" spc="-1" strike="noStrike">
                <a:solidFill>
                  <a:srgbClr val="cc3300"/>
                </a:solidFill>
                <a:latin typeface="华文中宋"/>
                <a:ea typeface="华文中宋"/>
              </a:rPr>
              <a:t>==</a:t>
            </a:r>
            <a:r>
              <a:rPr b="1" lang="zh-CN" sz="3600" spc="-1" strike="noStrike">
                <a:solidFill>
                  <a:srgbClr val="cc3300"/>
                </a:solidFill>
                <a:latin typeface="华文中宋"/>
                <a:ea typeface="华文中宋"/>
              </a:rPr>
              <a:t>门徒训练</a:t>
            </a:r>
            <a:r>
              <a:rPr b="1" lang="en-US" sz="3600" spc="-1" strike="noStrike">
                <a:solidFill>
                  <a:srgbClr val="cc3300"/>
                </a:solidFill>
                <a:latin typeface="华文中宋"/>
                <a:ea typeface="华文中宋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911160" y="4952880"/>
            <a:ext cx="95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中宋"/>
                <a:ea typeface="华文中宋"/>
              </a:rPr>
              <a:t>如何成为一个保罗：</a:t>
            </a:r>
            <a:r>
              <a:rPr b="1" lang="zh-CN" sz="3600" spc="-1" strike="noStrike">
                <a:solidFill>
                  <a:srgbClr val="cc3300"/>
                </a:solidFill>
                <a:latin typeface="华文中宋"/>
                <a:ea typeface="华文中宋"/>
              </a:rPr>
              <a:t>质量为目标，爱心相劝；代祷；预备他做保罗；把结果交给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1127160" y="6216480"/>
            <a:ext cx="95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中宋"/>
                <a:ea typeface="华文中宋"/>
              </a:rPr>
              <a:t>  </a:t>
            </a:r>
            <a:r>
              <a:rPr b="1" lang="zh-CN" sz="3600" spc="-1" strike="noStrike">
                <a:solidFill>
                  <a:srgbClr val="0070c0"/>
                </a:solidFill>
                <a:latin typeface="华文中宋"/>
                <a:ea typeface="华文中宋"/>
              </a:rPr>
              <a:t>设立全面的栽培系统：</a:t>
            </a:r>
            <a:r>
              <a:rPr b="1" lang="zh-CN" sz="3600" spc="-1" strike="noStrike">
                <a:solidFill>
                  <a:srgbClr val="cc3300"/>
                </a:solidFill>
                <a:latin typeface="华文中宋"/>
                <a:ea typeface="华文中宋"/>
              </a:rPr>
              <a:t>保罗会议执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839880" y="1143000"/>
            <a:ext cx="906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中宋"/>
                <a:ea typeface="华文中宋"/>
              </a:rPr>
              <a:t>门徒的潜能：</a:t>
            </a:r>
            <a:r>
              <a:rPr b="1" lang="zh-CN" sz="3600" spc="-1" strike="noStrike">
                <a:solidFill>
                  <a:srgbClr val="ff3300"/>
                </a:solidFill>
                <a:latin typeface="华文中宋"/>
                <a:ea typeface="华文中宋"/>
              </a:rPr>
              <a:t>基督生命的基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灯片编号占位符 2"/>
          <p:cNvSpPr/>
          <p:nvPr/>
        </p:nvSpPr>
        <p:spPr>
          <a:xfrm>
            <a:off x="8737560" y="6248520"/>
            <a:ext cx="254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E3DB8-8E3B-4CBC-9740-9111BC0E1AD4}" type="slidenum">
              <a:rPr b="0" lang="en-S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Box 3"/>
          <p:cNvSpPr/>
          <p:nvPr/>
        </p:nvSpPr>
        <p:spPr>
          <a:xfrm>
            <a:off x="150840" y="101520"/>
            <a:ext cx="1188864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                                             </a:t>
            </a:r>
            <a:r>
              <a:rPr b="1" lang="zh-CN" sz="18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定点主工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ssionary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　　　　　　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zh-TW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初信者</a:t>
            </a: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/</a:t>
            </a:r>
            <a:r>
              <a:rPr b="1" lang="zh-TW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初熟果子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rst fruit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月一对一栽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e to  one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Microsoft JhengHei"/>
              </a:rPr>
              <a:t>                      </a:t>
            </a:r>
            <a:r>
              <a:rPr b="1" lang="zh-TW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栽培成为种子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e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-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神学 </a:t>
            </a:r>
            <a:r>
              <a:rPr b="1" lang="en-MY" sz="3200" spc="-1" strike="noStrike">
                <a:solidFill>
                  <a:srgbClr val="0000ff"/>
                </a:solidFill>
                <a:latin typeface="Arial"/>
              </a:rPr>
              <a:t>3 Yrs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eological Trai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栽培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成为民族</a:t>
            </a:r>
            <a:r>
              <a:rPr b="1" lang="zh-TW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教师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acher / pas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ll Time pastor Ro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建立本土化民族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小</a:t>
            </a:r>
            <a:r>
              <a:rPr b="1" lang="zh-TW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家 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Build H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ouse Chur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" name="直接箭头连接符 5"/>
          <p:cNvCxnSpPr/>
          <p:nvPr/>
        </p:nvCxnSpPr>
        <p:spPr>
          <a:xfrm flipV="1">
            <a:off x="13738680" y="1340640"/>
            <a:ext cx="2520" cy="7236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sp>
        <p:nvSpPr>
          <p:cNvPr id="78" name="下箭头 8"/>
          <p:cNvSpPr/>
          <p:nvPr/>
        </p:nvSpPr>
        <p:spPr>
          <a:xfrm>
            <a:off x="5303880" y="907920"/>
            <a:ext cx="468360" cy="4334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下箭头 9"/>
          <p:cNvSpPr/>
          <p:nvPr/>
        </p:nvSpPr>
        <p:spPr>
          <a:xfrm>
            <a:off x="5254560" y="2844720"/>
            <a:ext cx="469800" cy="62064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ffff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下箭头 10"/>
          <p:cNvSpPr/>
          <p:nvPr/>
        </p:nvSpPr>
        <p:spPr>
          <a:xfrm>
            <a:off x="5327640" y="4365720"/>
            <a:ext cx="444600" cy="503280"/>
          </a:xfrm>
          <a:prstGeom prst="downArrow">
            <a:avLst>
              <a:gd name="adj1" fmla="val 50000"/>
              <a:gd name="adj2" fmla="val 49991"/>
            </a:avLst>
          </a:prstGeom>
          <a:solidFill>
            <a:srgbClr val="ffff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下箭头 11"/>
          <p:cNvSpPr/>
          <p:nvPr/>
        </p:nvSpPr>
        <p:spPr>
          <a:xfrm>
            <a:off x="5256360" y="1916280"/>
            <a:ext cx="468000" cy="577800"/>
          </a:xfrm>
          <a:prstGeom prst="downArrow">
            <a:avLst>
              <a:gd name="adj1" fmla="val 50000"/>
              <a:gd name="adj2" fmla="val 50030"/>
            </a:avLst>
          </a:prstGeom>
          <a:solidFill>
            <a:srgbClr val="ffff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下箭头 12"/>
          <p:cNvSpPr/>
          <p:nvPr/>
        </p:nvSpPr>
        <p:spPr>
          <a:xfrm>
            <a:off x="5303880" y="5343480"/>
            <a:ext cx="444600" cy="504720"/>
          </a:xfrm>
          <a:prstGeom prst="downArrow">
            <a:avLst>
              <a:gd name="adj1" fmla="val 50000"/>
              <a:gd name="adj2" fmla="val 49976"/>
            </a:avLst>
          </a:prstGeom>
          <a:solidFill>
            <a:srgbClr val="ffff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Box 2"/>
          <p:cNvSpPr/>
          <p:nvPr/>
        </p:nvSpPr>
        <p:spPr>
          <a:xfrm>
            <a:off x="5748480" y="5586480"/>
            <a:ext cx="456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tential bible teac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uild up training cent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2063880" y="58482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建立民族工人学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2400" y="96840"/>
            <a:ext cx="2808000" cy="9471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穆民回归团契          事工导向与建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Box 1"/>
          <p:cNvSpPr/>
          <p:nvPr/>
        </p:nvSpPr>
        <p:spPr>
          <a:xfrm>
            <a:off x="6024600" y="90792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000000"/>
                </a:solidFill>
                <a:latin typeface="Rockwell"/>
              </a:rPr>
              <a:t>2-3 </a:t>
            </a: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y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Straight Connector 4"/>
          <p:cNvSpPr/>
          <p:nvPr/>
        </p:nvSpPr>
        <p:spPr>
          <a:xfrm flipV="1">
            <a:off x="1127160" y="3055680"/>
            <a:ext cx="10656720" cy="12600"/>
          </a:xfrm>
          <a:prstGeom prst="line">
            <a:avLst/>
          </a:prstGeom>
          <a:ln w="76320">
            <a:solidFill>
              <a:srgbClr val="ffc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rrow: Curved Right 13"/>
          <p:cNvSpPr/>
          <p:nvPr/>
        </p:nvSpPr>
        <p:spPr>
          <a:xfrm rot="5127600">
            <a:off x="10412280" y="-155160"/>
            <a:ext cx="709560" cy="1792080"/>
          </a:xfrm>
          <a:custGeom>
            <a:avLst/>
            <a:gdLst>
              <a:gd name="textAreaLeft" fmla="*/ 95040 w 709560"/>
              <a:gd name="textAreaRight" fmla="*/ 614520 w 709560"/>
              <a:gd name="textAreaTop" fmla="*/ 381240 h 1792080"/>
              <a:gd name="textAreaBottom" fmla="*/ 1321920 h 1792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197" stAng="-5400000" swAng="-5400000"/>
                <a:lnTo>
                  <a:pt x="0" y="11335"/>
                </a:lnTo>
                <a:arcTo wR="21600" hR="9197" stAng="10800000" swAng="-3525950"/>
                <a:lnTo>
                  <a:pt x="16200" y="21308"/>
                </a:lnTo>
                <a:lnTo>
                  <a:pt x="21600" y="19462"/>
                </a:lnTo>
                <a:lnTo>
                  <a:pt x="16200" y="17032"/>
                </a:lnTo>
                <a:lnTo>
                  <a:pt x="16200" y="18101"/>
                </a:lnTo>
                <a:arcTo wR="21600" hR="9197" stAng="7274050" swAng="3354794"/>
                <a:lnTo>
                  <a:pt x="146" y="10265"/>
                </a:lnTo>
                <a:arcTo wR="21600" hR="9197" stAng="-10628844" swAng="5228844"/>
                <a:close/>
              </a:path>
              <a:path fill="darkenLess" w="21600" h="21600">
                <a:moveTo>
                  <a:pt x="21600" y="0"/>
                </a:moveTo>
                <a:arcTo wR="21600" hR="9197" stAng="-5400000" swAng="-5400000"/>
                <a:lnTo>
                  <a:pt x="0" y="9197"/>
                </a:lnTo>
                <a:arcTo wR="21600" hR="9197" stAng="10800000" swAng="-171156"/>
                <a:lnTo>
                  <a:pt x="146" y="10265"/>
                </a:lnTo>
                <a:arcTo wR="21600" hR="9197" stAng="-10628844" swAng="5228844"/>
                <a:close/>
              </a:path>
            </a:pathLst>
          </a:custGeom>
          <a:solidFill>
            <a:srgbClr val="00cc99"/>
          </a:solidFill>
          <a:ln w="25560">
            <a:solidFill>
              <a:srgbClr val="0055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rrow: Curved Left 14"/>
          <p:cNvSpPr/>
          <p:nvPr/>
        </p:nvSpPr>
        <p:spPr>
          <a:xfrm rot="5148600">
            <a:off x="10420200" y="714240"/>
            <a:ext cx="865080" cy="1805040"/>
          </a:xfrm>
          <a:custGeom>
            <a:avLst/>
            <a:gdLst>
              <a:gd name="textAreaLeft" fmla="*/ 115920 w 865080"/>
              <a:gd name="textAreaRight" fmla="*/ 749160 w 865080"/>
              <a:gd name="textAreaTop" fmla="*/ 370080 h 1805040"/>
              <a:gd name="textAreaBottom" fmla="*/ 1326960 h 1805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859" stAng="-5400000" swAng="5400000"/>
                <a:lnTo>
                  <a:pt x="21600" y="11448"/>
                </a:lnTo>
                <a:arcTo wR="21600" hR="8859" stAng="0" swAng="3468389"/>
                <a:lnTo>
                  <a:pt x="5400" y="21319"/>
                </a:lnTo>
                <a:lnTo>
                  <a:pt x="0" y="19012"/>
                </a:lnTo>
                <a:lnTo>
                  <a:pt x="5400" y="16142"/>
                </a:lnTo>
                <a:lnTo>
                  <a:pt x="5400" y="17436"/>
                </a:lnTo>
                <a:arcTo wR="21600" hR="8859" stAng="3468389" swAng="-3260381"/>
                <a:lnTo>
                  <a:pt x="21368" y="10153"/>
                </a:lnTo>
                <a:arcTo wR="21600" hR="8859" stAng="-208007" swAng="-5191993"/>
                <a:close/>
              </a:path>
              <a:path fill="darkenLess" w="21600" h="21600">
                <a:moveTo>
                  <a:pt x="0" y="0"/>
                </a:moveTo>
                <a:arcTo wR="21600" hR="8859" stAng="-5400000" swAng="5400000"/>
                <a:lnTo>
                  <a:pt x="21600" y="11448"/>
                </a:lnTo>
                <a:arcTo wR="21600" hR="8859" stAng="0" swAng="-208007"/>
                <a:lnTo>
                  <a:pt x="21368" y="10153"/>
                </a:lnTo>
                <a:arcTo wR="21600" hR="8859" stAng="-208007" swAng="-5191993"/>
                <a:close/>
              </a:path>
            </a:pathLst>
          </a:custGeom>
          <a:solidFill>
            <a:srgbClr val="00cc99"/>
          </a:solidFill>
          <a:ln w="25560">
            <a:solidFill>
              <a:srgbClr val="0055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rrow: Curved Right 2"/>
          <p:cNvSpPr/>
          <p:nvPr/>
        </p:nvSpPr>
        <p:spPr>
          <a:xfrm rot="5400000">
            <a:off x="10614960" y="3206520"/>
            <a:ext cx="981360" cy="1870200"/>
          </a:xfrm>
          <a:custGeom>
            <a:avLst/>
            <a:gdLst>
              <a:gd name="textAreaLeft" fmla="*/ 131400 w 981360"/>
              <a:gd name="textAreaRight" fmla="*/ 849960 w 981360"/>
              <a:gd name="textAreaTop" fmla="*/ 375480 h 1870200"/>
              <a:gd name="textAreaBottom" fmla="*/ 1371960 h 187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76" stAng="-5400000" swAng="-5400000"/>
                <a:lnTo>
                  <a:pt x="0" y="11508"/>
                </a:lnTo>
                <a:arcTo wR="21600" hR="8676" stAng="10800000" swAng="-3435890"/>
                <a:lnTo>
                  <a:pt x="16200" y="21325"/>
                </a:lnTo>
                <a:lnTo>
                  <a:pt x="21600" y="18767"/>
                </a:lnTo>
                <a:lnTo>
                  <a:pt x="16200" y="15659"/>
                </a:lnTo>
                <a:lnTo>
                  <a:pt x="16200" y="17076"/>
                </a:lnTo>
                <a:arcTo wR="21600" hR="8676" stAng="7364110" swAng="3207798"/>
                <a:lnTo>
                  <a:pt x="290" y="10092"/>
                </a:lnTo>
                <a:arcTo wR="21600" hR="8676" stAng="-10571909" swAng="5171909"/>
                <a:close/>
              </a:path>
              <a:path fill="darkenLess" w="21600" h="21600">
                <a:moveTo>
                  <a:pt x="21600" y="0"/>
                </a:moveTo>
                <a:arcTo wR="21600" hR="8676" stAng="-5400000" swAng="-5400000"/>
                <a:lnTo>
                  <a:pt x="0" y="8676"/>
                </a:lnTo>
                <a:arcTo wR="21600" hR="8676" stAng="10800000" swAng="-228091"/>
                <a:lnTo>
                  <a:pt x="290" y="10092"/>
                </a:lnTo>
                <a:arcTo wR="21600" hR="8676" stAng="-10571909" swAng="5171909"/>
                <a:close/>
              </a:path>
            </a:pathLst>
          </a:custGeom>
          <a:solidFill>
            <a:srgbClr val="00cc99"/>
          </a:solidFill>
          <a:ln w="25560">
            <a:solidFill>
              <a:srgbClr val="0055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rrow: Curved Left 3"/>
          <p:cNvSpPr/>
          <p:nvPr/>
        </p:nvSpPr>
        <p:spPr>
          <a:xfrm rot="5655000">
            <a:off x="10677600" y="4259880"/>
            <a:ext cx="946440" cy="1805040"/>
          </a:xfrm>
          <a:custGeom>
            <a:avLst/>
            <a:gdLst>
              <a:gd name="textAreaLeft" fmla="*/ 126720 w 946440"/>
              <a:gd name="textAreaRight" fmla="*/ 819720 w 946440"/>
              <a:gd name="textAreaTop" fmla="*/ 385920 h 1805040"/>
              <a:gd name="textAreaBottom" fmla="*/ 1394640 h 1805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238" stAng="-5400000" swAng="5400000"/>
                <a:lnTo>
                  <a:pt x="21600" y="12068"/>
                </a:lnTo>
                <a:arcTo wR="21600" hR="9238" stAng="0" swAng="3532806"/>
                <a:lnTo>
                  <a:pt x="5400" y="21307"/>
                </a:lnTo>
                <a:lnTo>
                  <a:pt x="0" y="19891"/>
                </a:lnTo>
                <a:lnTo>
                  <a:pt x="5400" y="17889"/>
                </a:lnTo>
                <a:lnTo>
                  <a:pt x="5400" y="18183"/>
                </a:lnTo>
                <a:arcTo wR="21600" hR="9238" stAng="3532806" swAng="-3305245"/>
                <a:lnTo>
                  <a:pt x="21345" y="10653"/>
                </a:lnTo>
                <a:arcTo wR="21600" hR="9238" stAng="-227561" swAng="-5172439"/>
                <a:close/>
              </a:path>
              <a:path fill="darkenLess" w="21600" h="21600">
                <a:moveTo>
                  <a:pt x="0" y="0"/>
                </a:moveTo>
                <a:arcTo wR="21600" hR="9238" stAng="-5400000" swAng="5400000"/>
                <a:lnTo>
                  <a:pt x="21600" y="12068"/>
                </a:lnTo>
                <a:arcTo wR="21600" hR="9238" stAng="0" swAng="-227561"/>
                <a:lnTo>
                  <a:pt x="21345" y="10653"/>
                </a:lnTo>
                <a:arcTo wR="21600" hR="9238" stAng="-227561" swAng="-5172439"/>
                <a:close/>
              </a:path>
            </a:pathLst>
          </a:custGeom>
          <a:solidFill>
            <a:srgbClr val="00cc99"/>
          </a:solidFill>
          <a:ln w="25560">
            <a:solidFill>
              <a:srgbClr val="0055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Straight Connector 6"/>
          <p:cNvSpPr/>
          <p:nvPr/>
        </p:nvSpPr>
        <p:spPr>
          <a:xfrm>
            <a:off x="982800" y="3056040"/>
            <a:ext cx="11209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Box 15"/>
          <p:cNvSpPr/>
          <p:nvPr/>
        </p:nvSpPr>
        <p:spPr>
          <a:xfrm>
            <a:off x="10547280" y="636480"/>
            <a:ext cx="96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重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Box 16"/>
          <p:cNvSpPr/>
          <p:nvPr/>
        </p:nvSpPr>
        <p:spPr>
          <a:xfrm>
            <a:off x="10842480" y="3973680"/>
            <a:ext cx="96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重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灯片编号占位符 3"/>
          <p:cNvSpPr/>
          <p:nvPr/>
        </p:nvSpPr>
        <p:spPr>
          <a:xfrm>
            <a:off x="8737560" y="6248520"/>
            <a:ext cx="254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9C348-F244-4E7B-9173-2FD0E4139FAE}" type="slidenum">
              <a:rPr b="1" lang="zh-TW" sz="1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407880" y="1371600"/>
            <a:ext cx="1026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A</a:t>
            </a:r>
            <a:r>
              <a:rPr b="1" lang="zh-CN" sz="40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）如何将出席者改变成为教会会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407880" y="2514600"/>
            <a:ext cx="1026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I</a:t>
            </a:r>
            <a:r>
              <a:rPr b="1" lang="zh-CN" sz="36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）建立一套同化会友的程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2209680" y="3276720"/>
            <a:ext cx="7696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Microsoft JhengHei"/>
                <a:ea typeface="Microsoft JhengHei"/>
              </a:rPr>
              <a:t>按 教会的异象与目标设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Microsoft JhengHei"/>
                <a:ea typeface="Microsoft JhengHei"/>
              </a:rPr>
              <a:t>门徒裁培的内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407880" y="5310360"/>
            <a:ext cx="91933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II</a:t>
            </a:r>
            <a:r>
              <a:rPr b="1" lang="zh-CN" sz="36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）宣讲教会会友藉的价值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在这里他能得到怎样的永恒价值与利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8" descr="CHRCH038"/>
          <p:cNvPicPr/>
          <p:nvPr/>
        </p:nvPicPr>
        <p:blipFill>
          <a:blip r:embed="rId1"/>
          <a:stretch/>
        </p:blipFill>
        <p:spPr>
          <a:xfrm>
            <a:off x="7467480" y="2209680"/>
            <a:ext cx="3200400" cy="30560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9"/>
          <p:cNvSpPr/>
          <p:nvPr/>
        </p:nvSpPr>
        <p:spPr>
          <a:xfrm>
            <a:off x="119160" y="314280"/>
            <a:ext cx="863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V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拥有一个成全圣徒的栽培制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Utopia%20Ques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Utopia%20Ques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Utopia%20Ques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Utopia%20Ques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灯片编号占位符 3"/>
          <p:cNvSpPr/>
          <p:nvPr/>
        </p:nvSpPr>
        <p:spPr>
          <a:xfrm>
            <a:off x="8737560" y="6248520"/>
            <a:ext cx="254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FCC58-56A7-4876-B669-61A087E1000F}" type="slidenum">
              <a:rPr b="0" lang="zh-TW" sz="1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1523880" y="22860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B</a:t>
            </a:r>
            <a:r>
              <a:rPr b="0" lang="zh-TW" sz="4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建立一套委身与建造的程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1523880" y="10666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I</a:t>
            </a:r>
            <a:r>
              <a:rPr b="0" lang="zh-CN" sz="36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）辨认教会有不同的委身层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5"/>
          <p:cNvSpPr/>
          <p:nvPr/>
        </p:nvSpPr>
        <p:spPr>
          <a:xfrm>
            <a:off x="2286000" y="5334120"/>
            <a:ext cx="2133720" cy="9903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6"/>
          <p:cNvSpPr/>
          <p:nvPr/>
        </p:nvSpPr>
        <p:spPr>
          <a:xfrm>
            <a:off x="3276720" y="4419720"/>
            <a:ext cx="2133360" cy="9144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7"/>
          <p:cNvSpPr/>
          <p:nvPr/>
        </p:nvSpPr>
        <p:spPr>
          <a:xfrm>
            <a:off x="4572000" y="3505320"/>
            <a:ext cx="2286000" cy="9144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8"/>
          <p:cNvSpPr/>
          <p:nvPr/>
        </p:nvSpPr>
        <p:spPr>
          <a:xfrm>
            <a:off x="6019920" y="2590920"/>
            <a:ext cx="2286000" cy="9144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9"/>
          <p:cNvSpPr/>
          <p:nvPr/>
        </p:nvSpPr>
        <p:spPr>
          <a:xfrm>
            <a:off x="7238880" y="1676520"/>
            <a:ext cx="2362320" cy="9144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2362320" y="56386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慕道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3276720" y="45720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固定会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4648320" y="35812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潜能会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6095880" y="27432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成熟会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7315200" y="18288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3333cc"/>
                </a:solidFill>
                <a:latin typeface="Microsoft JhengHei"/>
                <a:ea typeface="Microsoft JhengHei"/>
              </a:rPr>
              <a:t>成熟领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15"/>
          <p:cNvSpPr/>
          <p:nvPr/>
        </p:nvSpPr>
        <p:spPr>
          <a:xfrm flipH="1">
            <a:off x="1523520" y="1676520"/>
            <a:ext cx="5715000" cy="3581280"/>
          </a:xfrm>
          <a:prstGeom prst="line">
            <a:avLst/>
          </a:prstGeom>
          <a:ln w="5724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6"/>
          <p:cNvSpPr/>
          <p:nvPr/>
        </p:nvSpPr>
        <p:spPr>
          <a:xfrm>
            <a:off x="4495680" y="556272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1</a:t>
            </a:r>
            <a:r>
              <a:rPr b="0" lang="zh-CN" sz="36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带进敬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8"/>
          <p:cNvSpPr/>
          <p:nvPr/>
        </p:nvSpPr>
        <p:spPr>
          <a:xfrm>
            <a:off x="5486400" y="45720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2</a:t>
            </a:r>
            <a:r>
              <a:rPr b="0" lang="zh-CN" sz="36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带进会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9"/>
          <p:cNvSpPr/>
          <p:nvPr/>
        </p:nvSpPr>
        <p:spPr>
          <a:xfrm>
            <a:off x="6858000" y="35812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3</a:t>
            </a:r>
            <a:r>
              <a:rPr b="0" lang="zh-CN" sz="36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带进门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20"/>
          <p:cNvSpPr/>
          <p:nvPr/>
        </p:nvSpPr>
        <p:spPr>
          <a:xfrm>
            <a:off x="8305920" y="274320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4</a:t>
            </a:r>
            <a:r>
              <a:rPr b="0" lang="zh-CN" sz="36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带进核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21"/>
          <p:cNvSpPr/>
          <p:nvPr/>
        </p:nvSpPr>
        <p:spPr>
          <a:xfrm>
            <a:off x="8381880" y="10666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5</a:t>
            </a:r>
            <a:r>
              <a:rPr b="0" lang="zh-CN" sz="36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带进宣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ungle%20Ope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AD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Utopia%20Ques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Utopia%20Ques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Utopia%20Ques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Utopia%20Ques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Utopia%20Ques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Utopia%20Ques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Utopia%20Ques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Utopia%20Ques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Utopia%20Ques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Utopia%20Ques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Utopia%20Ques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灯片编号占位符 3"/>
          <p:cNvSpPr/>
          <p:nvPr/>
        </p:nvSpPr>
        <p:spPr>
          <a:xfrm>
            <a:off x="8737560" y="6248520"/>
            <a:ext cx="254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70467-56E5-4554-9962-5AEA9222844F}" type="slidenum">
              <a:rPr b="1" lang="zh-TW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2"/>
          <p:cNvSpPr/>
          <p:nvPr/>
        </p:nvSpPr>
        <p:spPr>
          <a:xfrm>
            <a:off x="4876920" y="5715000"/>
            <a:ext cx="2209680" cy="1143000"/>
          </a:xfrm>
          <a:prstGeom prst="rect">
            <a:avLst/>
          </a:prstGeom>
          <a:solidFill>
            <a:srgbClr val="ffffff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7620120" y="3048120"/>
            <a:ext cx="2209680" cy="1143000"/>
          </a:xfrm>
          <a:prstGeom prst="rect">
            <a:avLst/>
          </a:prstGeom>
          <a:solidFill>
            <a:srgbClr val="ffffff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4876920" y="762120"/>
            <a:ext cx="2361960" cy="1143000"/>
          </a:xfrm>
          <a:prstGeom prst="rect">
            <a:avLst/>
          </a:prstGeom>
          <a:solidFill>
            <a:srgbClr val="ffffff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2362320" y="3048120"/>
            <a:ext cx="2209680" cy="1143000"/>
          </a:xfrm>
          <a:prstGeom prst="rect">
            <a:avLst/>
          </a:prstGeom>
          <a:solidFill>
            <a:srgbClr val="ffffff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7620120" y="335268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委身教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4952880" y="99072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1" lang="zh-TW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委身成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2362320" y="32767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3</a:t>
            </a:r>
            <a:r>
              <a:rPr b="1" lang="zh-TW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委身事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4876920" y="594360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4</a:t>
            </a:r>
            <a:r>
              <a:rPr b="1" lang="zh-TW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委身宣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11"/>
          <p:cNvSpPr/>
          <p:nvPr/>
        </p:nvSpPr>
        <p:spPr>
          <a:xfrm rot="18754800">
            <a:off x="7180920" y="1124640"/>
            <a:ext cx="1303200" cy="1949400"/>
          </a:xfrm>
          <a:prstGeom prst="upArrow">
            <a:avLst>
              <a:gd name="adj1" fmla="val 50000"/>
              <a:gd name="adj2" fmla="val 37396"/>
            </a:avLst>
          </a:prstGeom>
          <a:solidFill>
            <a:srgbClr val="3333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12"/>
          <p:cNvSpPr/>
          <p:nvPr/>
        </p:nvSpPr>
        <p:spPr>
          <a:xfrm rot="12700800">
            <a:off x="3428640" y="1294560"/>
            <a:ext cx="1371600" cy="1949400"/>
          </a:xfrm>
          <a:prstGeom prst="upArrow">
            <a:avLst>
              <a:gd name="adj1" fmla="val 50000"/>
              <a:gd name="adj2" fmla="val 35531"/>
            </a:avLst>
          </a:prstGeom>
          <a:solidFill>
            <a:srgbClr val="3333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13"/>
          <p:cNvSpPr/>
          <p:nvPr/>
        </p:nvSpPr>
        <p:spPr>
          <a:xfrm rot="7055400">
            <a:off x="3546720" y="3996000"/>
            <a:ext cx="1303200" cy="2149560"/>
          </a:xfrm>
          <a:prstGeom prst="upArrow">
            <a:avLst>
              <a:gd name="adj1" fmla="val 50000"/>
              <a:gd name="adj2" fmla="val 41236"/>
            </a:avLst>
          </a:prstGeom>
          <a:solidFill>
            <a:srgbClr val="3333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14"/>
          <p:cNvSpPr/>
          <p:nvPr/>
        </p:nvSpPr>
        <p:spPr>
          <a:xfrm rot="1893000">
            <a:off x="7162560" y="4038480"/>
            <a:ext cx="1295280" cy="1949400"/>
          </a:xfrm>
          <a:prstGeom prst="upArrow">
            <a:avLst>
              <a:gd name="adj1" fmla="val 50000"/>
              <a:gd name="adj2" fmla="val 37625"/>
            </a:avLst>
          </a:prstGeom>
          <a:solidFill>
            <a:srgbClr val="3333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5"/>
          <p:cNvSpPr/>
          <p:nvPr/>
        </p:nvSpPr>
        <p:spPr>
          <a:xfrm>
            <a:off x="1523880" y="0"/>
            <a:ext cx="609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C</a:t>
            </a:r>
            <a:r>
              <a:rPr b="1" lang="zh-TW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生命使命建造程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6"/>
          <p:cNvSpPr/>
          <p:nvPr/>
        </p:nvSpPr>
        <p:spPr>
          <a:xfrm>
            <a:off x="7772400" y="43434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中宋"/>
                <a:ea typeface="华文中宋"/>
              </a:rPr>
              <a:t>认识基督系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7"/>
          <p:cNvSpPr/>
          <p:nvPr/>
        </p:nvSpPr>
        <p:spPr>
          <a:xfrm>
            <a:off x="7238880" y="7621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中宋"/>
                <a:ea typeface="华文中宋"/>
              </a:rPr>
              <a:t>基督里长进系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1523880" y="243828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3300"/>
                </a:solidFill>
                <a:latin typeface="华文中宋"/>
                <a:ea typeface="华文中宋"/>
              </a:rPr>
              <a:t>服事基督系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20"/>
          <p:cNvSpPr/>
          <p:nvPr/>
        </p:nvSpPr>
        <p:spPr>
          <a:xfrm>
            <a:off x="1905120" y="609588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中宋"/>
                <a:ea typeface="华文中宋"/>
              </a:rPr>
              <a:t>传扬基督系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ungle%20Exclama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Utopia%20Ques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Utopia%20Ques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Utopia%20Ques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Utopia%20Ques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Utopia%20Ques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Utopia%20Ques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Utopia%20Ques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Utopia%20Ques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Utopia%20Ques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Utopia%20Ques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Utopia%20Ques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Utopia%20Ques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灯片编号占位符 3"/>
          <p:cNvSpPr/>
          <p:nvPr/>
        </p:nvSpPr>
        <p:spPr>
          <a:xfrm>
            <a:off x="8737560" y="6248520"/>
            <a:ext cx="254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05960-F1FB-4B4F-837A-3DB87CB2D1FC}" type="slidenum">
              <a:rPr b="1" lang="zh-TW" sz="1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Object 2"/>
          <p:cNvGraphicFramePr/>
          <p:nvPr/>
        </p:nvGraphicFramePr>
        <p:xfrm>
          <a:off x="1765440" y="1601640"/>
          <a:ext cx="8661240" cy="462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5440" y="1601640"/>
                    <a:ext cx="8661240" cy="462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Text Box 3"/>
          <p:cNvSpPr/>
          <p:nvPr/>
        </p:nvSpPr>
        <p:spPr>
          <a:xfrm>
            <a:off x="2362320" y="304920"/>
            <a:ext cx="7543800" cy="70344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D)</a:t>
            </a:r>
            <a:r>
              <a:rPr b="1" lang="zh-CN" sz="4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建立一套会友必修的真理课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AD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IR_INT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30T05:15:54Z</dcterms:created>
  <dc:creator>win</dc:creator>
  <dc:description/>
  <dc:language>en-US</dc:language>
  <cp:lastModifiedBy>chan HK</cp:lastModifiedBy>
  <dcterms:modified xsi:type="dcterms:W3CDTF">2025-02-11T07:25:31Z</dcterms:modified>
  <cp:revision>34</cp:revision>
  <dc:subject/>
  <dc:title>無投影片標題</dc:title>
</cp:coreProperties>
</file>