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34E2-E30E-4D0D-A42D-61E6DA03B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9C4D-AA00-4264-ACCD-21CD1EF53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87F4-C0A2-4D7A-9815-99B0F386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2962-C962-474F-A6BF-069067B92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7FA6-AD50-45E8-85CF-43471B26F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DAF6-161C-47D9-9F33-EAE84F1D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0194-25FC-421A-97A2-46592FE8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C13D-BDC5-422F-8D1A-1CB71F320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108E-47D1-43E1-ACED-BF6365BE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6361-6483-4A05-B4DE-79413640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534F-0821-4D40-8D75-C18D8EB7D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0113-7808-461F-8F93-6CD44E1E8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623E-DB2D-4BBD-AC11-C328D9BE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255C-908C-4F9B-B504-7A7502A5E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EBA9-71B0-47D3-A392-A78D2DF6D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83E2-D41B-4DE3-82AC-EF4E72233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2EF-88B5-48E9-A982-C51BA01C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479C-F1B7-431C-854B-6CC8F0CA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AF55-EB71-417C-826A-5DDFB7F8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B3CC-CABE-4B50-87E4-D166EBB3B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3A3C-81B0-46FB-9B52-5156C7FF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C70B-59A9-4473-9825-DD5C0194A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7A6-E564-4B9F-A786-6C76EBA8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621-433C-437C-B8EE-877C3B47F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2663-A8AB-4D1A-9D09-C302B8EE3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E186-4580-4BD7-BC59-AAE2BDBB6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ECE3-14C2-45F1-B598-B4CB2F23E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75C7-F25A-4226-97F5-ED24585A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7459-AF9D-4C99-BC0D-CC79FBBCA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2F3F-8FCC-4CD8-A58E-06ACCE27B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2D8F-4C28-47AD-A5D0-06A95580B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2C2D-48FE-4752-88F2-F15686E8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F509-7746-40BF-95A4-4EE501B3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1C96-8E4C-4734-B654-39C5CB90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679A-0DE2-4836-9934-ECAEE191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F5D8-7ACA-439A-AAA7-0B0794A2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B678-CE4E-4666-946E-87A25DD4B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57DD-5DD9-435A-B3B0-AB9B0D0AA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2CC3-95E8-44AB-BAD2-3A5C09A9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E83D-2A28-4E26-A761-6A884847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944B-A70D-4FEC-AF4B-580B5D4B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F421-80D9-4DDC-9394-064D22EF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B829-53CA-415C-8066-794D28D0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DD11-84D3-4028-816F-5CEB44639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E916-DF31-4812-B61E-A6D626967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70FC-5248-46FB-A9A6-0CEC17480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F36E-5AC0-4B72-8CD8-1F87CDEFD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3A3E-709D-426D-BB07-2DB5FB3C6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B83-6136-47FC-B267-DFF91B17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035-5F1E-4142-8D6D-21E1825D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44D-17FC-419B-B18D-A7BF7793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422-225D-4BE5-8767-1955E390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CE98-1761-4103-90B4-033FB045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EA45-5D85-43BB-878C-19C7CA7F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3262-0A5D-4B1B-80D9-16B3C51C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5149-DCC8-4E3D-84C4-0F245F17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0FF1-0EAE-405D-BECF-9D5D1D32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D468-7C41-47D5-96DE-77D8CA74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04D5-EC04-46FE-BC66-8554EA0F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D20-D4E9-479C-A316-A4212475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47BA-6558-4411-AEF3-8EF04AE9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847C-5B2D-4EB4-864D-5CD0582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364F-8728-446D-BAD9-C097C8F3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6340-D72E-41F7-8BFD-BD602CC3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BAE1-C405-4044-BFC9-C7FBDD88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AB7-2455-4A91-B1AF-B3566D14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045-8455-4996-BFFC-94A7FE0B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15B-6D5C-4B05-AB1B-A256D170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1A9-5301-49B8-A4AE-AE09794A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7C0-9314-4EBB-B8A8-B1BA512E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CCE-EB73-4E6E-81F8-38D1BD0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232-1FE9-4E5B-BE47-A7423B6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159200" cy="6858000"/>
            <a:chOff x="0" y="0"/>
            <a:chExt cx="101592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4266360" cy="6858000"/>
              <a:chOff x="0" y="0"/>
              <a:chExt cx="426636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0159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09480" y="0"/>
                <a:ext cx="365688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04560" y="1981080"/>
              <a:ext cx="9854640" cy="319320"/>
              <a:chOff x="304560" y="1981080"/>
              <a:chExt cx="985464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812160" y="1981080"/>
                <a:ext cx="93470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304560" y="1981080"/>
                <a:ext cx="52488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250800" y="624852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7721280" y="6248520"/>
            <a:ext cx="3862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12680" y="6242040"/>
            <a:ext cx="782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8525-C9E8-408E-87E0-3A93D4F1BA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822800" cy="6858000"/>
            <a:chOff x="0" y="0"/>
            <a:chExt cx="782280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588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914400" y="990720"/>
              <a:ext cx="690840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843440" y="4889520"/>
            <a:ext cx="6501600" cy="318960"/>
            <a:chOff x="4843440" y="4889520"/>
            <a:chExt cx="650160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4843440" y="4889520"/>
              <a:ext cx="616752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10998360" y="4889520"/>
              <a:ext cx="3466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250800" y="624852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7721280" y="6248520"/>
            <a:ext cx="3862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101520" y="6248520"/>
            <a:ext cx="782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F519-4723-4512-B5AC-396CF1410A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伊斯兰，启示，权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30520" y="2927520"/>
            <a:ext cx="5351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- 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Scrip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- 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Trad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古兰经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y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启示的意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10363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启示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“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我们向你讲诉，最美妙的故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就在我们向你显示的古兰经中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.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默示，灵感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“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也未隨私欲而言。這只是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所受的啟示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”   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53: 3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天然的本性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“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你們用椰棗和葡萄釀制醇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和佳美的給養，對於能理解的民眾，此中確有一種蹟象。你的主曾啟示蜜蜂：「你可以築房在山上和樹上，以及人們所建造的蜂房裡。 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6:67-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PMingLiU"/>
              </a:rPr>
              <a:t>最初的启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9560" y="2361960"/>
            <a:ext cx="11175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妻爱莎说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圣的默示开始临到穆罕默德时，是藉着如白晝的梦境临到他。他开始与所爱的暂时分开。他常独自一人前往希拉山洞，在那里敬拜祷告好几天，至到他想念家人为止。他常带一些食物来到山上，然後又回到妻子卡帝加那些带些食物又回到山上，不久真理就忽然在山洞临到了他。天使向他显现，要他念，穆氏回答说我不会念：那天使就强制的捉着了我，并且使勁的压制我，几乎使我不能承受；他接着放松了我，又叫我念，我回答说我不会念。他又使使勁的第二次压制我，使我几乎受不了。接着又松开我，又叫我念，我回答说要我念什么，我不会念？ 接着他第三次的使劲压制我；然後松开我说：念，奉你全能主之名，创造者，就是那用血块来创造人类。念，你的主是仁慈的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, I, No. 3; VI, No. 478; Muslim I, No. 3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第一个启示与最後一个启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18960" y="2361960"/>
            <a:ext cx="4800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个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應當奉你的創造主的名義而宣讀，他曾用血塊創造人。你應當宣讀，你的主是最尊嚴的，他曾教人用筆寫字，他曾教人知道自己所不知道的東西。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6:1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4880" y="2361960"/>
            <a:ext cx="5068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後一个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敬畏你被召回安拉的那天。每个人都当为自己的路，付出所赞得的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' (5: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35800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为什么古兰经是分段，渐渐的启示下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361960"/>
            <a:ext cx="10972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用了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时间，分不同的时段启示下来。而不是一次过的启示。穆斯林认为是因为：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了坚固穆罕默德的信心，当有启示需要时，引导就会临到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体贴穆罕默德，因为启示的过程与经历对他来说是艰难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的启示法则是逐渐实现与成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才能让信士们渐渐明白，比较容易背记与运用所启示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的启示被视为神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15560" y="2285640"/>
            <a:ext cx="11176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说：没有一个先知，是安拉不曾赐给他行使令人信服他的神迹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我来说；我被赐於（神迹性）的默示（古兰经） ，那是安拉启示於我的。 我希望在末日的审判时，我会有许多的信士。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视古兰经为神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10667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的语文文体超越许多的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所包含的广泛内容无人能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的法律制度难以超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的叙述包含未知的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没有矛盾，错误，误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包含了普世的智识，律法，科学，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满足了人类的需要，提供他们人生的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对人类的心灵有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带给人们过更好生活的果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的挑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你們懷疑我所降示給我的僕人的經典，那末，你們試擬作一章，並捨真主而祈禱你們的見証，如果你們是誠實的。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3)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相关的事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15920" y="2361960"/>
            <a:ext cx="1079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必须以阿拉伯文存在，不能翻译。所翻译的不过是它的意思。若要念颂古兰经，就必须学习阿拉伯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译本：人们需要知道，古兰经必须处在阿拉伯原文的情况才有效。由於正确无误的翻译古兰经是不可能；因此，被翻译为其它文字的古兰经，被称为只是「译意本古兰经」。它所包含的内容，被认为属於粗糙的古兰经内容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 quote from Khilafah magazine published in Lond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相关的事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15560" y="2361960"/>
            <a:ext cx="1102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的内容并不是按时间的先後来编排。第一编被启示的经文是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6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，而不是第一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拥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4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经文，章的阿拉伯文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rahs,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节则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是以纯阿拉伯文启示的 （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的传递与流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藉背记与口头传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藉文字书写的传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员的共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特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'Uthman.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抄写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PMingLiU"/>
              </a:rPr>
              <a:t>古兰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197400" y="2927520"/>
            <a:ext cx="401292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信仰经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hkamat and Mutashabih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230520" y="2927520"/>
            <a:ext cx="5351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字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意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hkamat 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与</a:t>
            </a:r>
            <a:br>
              <a:rPr sz="3200"/>
            </a:b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隐微的经文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tashabi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15560" y="2361960"/>
            <a:ext cx="1056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他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降示你這部經典，其中有許多明確的節文，是全經的基本；還有別的許多隱微的節文。心存邪念的人，遵從隱微的節文，企圖淆惑人心，探求經義的究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有真主和學問精通的人，才知道經義的究竟。他們說：「我們已確信它，明確的和隱微的，都是從我們的主那裡降示的。惟有理智的人，才會覺悟。</a:t>
            </a:r>
            <a:r>
              <a:rPr b="0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35800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义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hkamat                                                  </a:t>
            </a: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隐微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tashabi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2361960"/>
            <a:ext cx="4800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hkamat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字意，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根源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hkima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。意思是将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两件事分别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个复数名词，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的意思是能审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决定。用在古兰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是指清楚，易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确定的古兰经经文</a:t>
            </a:r>
            <a:r>
              <a:rPr b="1" lang="zh-TW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05360" y="228600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tashabi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字根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i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shtabaha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’ 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可质疑的。是个复数名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「不能确定，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者可被质疑」。 在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是指古兰经中某些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明确，不能完全明白，而又可能会有几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的经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义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hkamat                               </a:t>
            </a:r>
            <a:br>
              <a:rPr sz="3200"/>
            </a:b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隐微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tashabi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5257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hka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需要运用知识就能明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只需要采用一个角度就能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单看字面就能明白，不需要太多的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81320" y="2334960"/>
            <a:ext cx="4800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tashabi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有安拉自己才能全懂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超过一个角度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需要进深的解</a:t>
            </a:r>
            <a:r>
              <a:rPr b="1" lang="zh-TW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义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hkamat                               </a:t>
            </a:r>
            <a:br>
              <a:rPr sz="3200"/>
            </a:b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隐微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tashabi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15560" y="2362320"/>
            <a:ext cx="5689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hkamat: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道的人們啊！你們彼此間成立定期借貸的時候，你們應當寫一張借券，請一個會寫字的人，秉公代寫。代書人不得拒絕，當遵照真主所教他的方法而書寫。由債務者口授，（他口授時），當敬畏真主──他的主──不要減少債額一絲毫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2: 28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10280" y="2361960"/>
            <a:ext cx="3657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tashabihat </a:t>
            </a:r>
            <a:r>
              <a:rPr b="1" lang="zh-TW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例子</a:t>
            </a:r>
            <a:r>
              <a:rPr b="1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仁主已升上寶座了。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20: 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加 与 麦地拿的启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加的经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15560" y="2361960"/>
            <a:ext cx="1102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加的启示篇章共用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从麦加蒙召至迁都麦地拿。穆罕默德这段时间的事工就是呼召人来信仰伊斯兰。传道的主题包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与其独一神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tawhi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临的复活与审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警告拜偶像的麦加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在这期间是个传道者，警戒者而不是护卫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地拿经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15560" y="2357280"/>
            <a:ext cx="11023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地拿经文是穆氏迁都麦地拿，最後十年的经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麦地拿有四种不同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迁土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muhajirun,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从麦加跟随穆罕默德，逃往麦地拿的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辅土 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ansar,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原本在麦地拿的人，他们是接纳与帮助迁土的人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伪信者 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munafiqun,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原本在麦地拿，假意说会帮助穆斯林的人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有经典的人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ahl al-kitab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人是犹太人，基督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在这段时间，变成了领袖与掌权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Asbab Al-Nuzul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的背景”或“经文下降的原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19320" y="2361960"/>
            <a:ext cx="10058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某些独特的时间里与事故里，启示了某些独特经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伯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bab 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asbab)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是因由，导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rifa asbab al-nuzul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启示因由的知识。即启示相关真理的背景与历史性的因由，导至古兰经的启示与降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文的废除与修定               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Al-Nasikh wa Al-Mansukh (2:10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108964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伯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sikh’ and ‘mansukh’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两字是取意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sakha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。意思是「废除，取代，撤消，取消」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sikh 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动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是「废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rogating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nsukh 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动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是「被废除，被取代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e abrogated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名词的意思是说古兰经中有些经文，被废除而以别的经文取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新宋体"/>
              </a:rPr>
              <a:t>安拉曾启示的经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亚伯拉罕的薄片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Suhuf) Ibra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摩西的律法书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Taurat) M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大卫诗篇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Zabur) Daw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耶稣基督的福音书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Injil) (Is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穆罕默德的古兰经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Quran.Muhamm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有多少古兰经经文被废除取代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17440" y="2361960"/>
            <a:ext cx="10769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的传统学者，认为古兰经大概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节经文被废除的观点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种说法源于早期经注传统，但现代学术研究认为，这种观点可能过于夸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多数现代学者倾向于认为被废除的经文不超过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中经文废除的例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不同方式的背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17080" y="2361960"/>
            <a:ext cx="11074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几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qira‘a 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qiraa’at)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从卡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qara‘a,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根延伸过来的。其字义是：阅读，背诵，这也古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Quran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的延伸。这是动词性名词；意思是背诵的意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多达十四种背诵古兰经的方法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注解，注释</a:t>
            </a: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Tafsi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9677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fsir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是源自法撒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assara’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；意思是解说，说明，解释，注解，阐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注解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fsir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是用来说明，注解，有系统的来注释，解说古兰经。用意是，提供正确的讲解，让人对经文有清楚与明确的认识，并有效的去遵行其中的教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重要的古兰经注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达巴里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(d310/92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卡帝尔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Kathir (d774/137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加拉尼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fseer al-Jalalin,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阿马哈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Jalal al-din al-Mahalli (d864/1495)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稣由帝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Jalal al-din al-Suyuti (d911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The Sunnah</a:t>
            </a: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行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15560" y="2361960"/>
            <a:ext cx="10719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unnah: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所说的每句话，每个行为 及他许可他随从们所行，所做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录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Hadith: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圣训记录下来的书藉。有时圣训与圣行是同义词，主要是指穆罕默德所说过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回教法规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hariah: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伊斯兰的教法规或律法。是根据古兰经与圣行内容所制定的宗教，信仰，法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行 </a:t>
            </a: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unnah</a:t>
            </a: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重要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19320" y="2361960"/>
            <a:ext cx="10972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与圣行，给古兰经做了注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的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fsir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首先必须根据圣行与圣训录来解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与圣行，给古兰经的解说，提供了第一首叁考与主导它的解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們應當謹守拜功，完納天課，服從使者，以便你們蒙主的憐憫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24: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行 </a:t>
            </a: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unnah</a:t>
            </a: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重要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998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行录中有好些法规是古兰经没有记载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禁止与姑妈，姨妈，侄女，甥女结婚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醉酒者，淫乱者的刑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录的记载，可以裁决古兰经的解说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围；例如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1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，父母可以分得死去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遗产；然而在圣训中，却说若父母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信士，就不能承受穆斯林孩子的遗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录的编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新宋体"/>
              </a:rPr>
              <a:t>古兰经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3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安拉的话，藉天使迦百例，降於最後一位先知穆罕默德，藉着众多的抄写员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tawatur),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，用了最精准的字句与意思，透过口头，字句，无可仿造，独特，经安拉的保守，免去错误的传达了给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兰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Quran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的字意是朗读或背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是如何编辑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透过查证，验证传递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sanad).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根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传递者告诉另一个传递者，所听见关於穆罕默德说过了什么，做过了什么事。这传递的根源，最後必须联上穆罕默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个传递者，必须是个可以被信赖的穆斯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29760" y="834120"/>
            <a:ext cx="8465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沙希阿布卡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ahih Al-Bukhari (b. 194 A.H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11277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尼派穆斯林认为，除了古兰经以外，这圣训录是最值得信赖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布卡里共收集了六十万条圣训录，其中大部份是重复与伪造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本圣训录中，有六千条重复的圣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於个别记录的圣训共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13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，这些记录被认为是可信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634040" y="810360"/>
            <a:ext cx="8770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 </a:t>
            </a: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ahih Muslim (b. 204 A.H.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240" y="2361960"/>
            <a:ext cx="9296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紧接着布卡里，第二套被公认可信赖的圣训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书中有四千条没有重复的圣训，另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,000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重复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圣训被收集在布卡里圣训录；却有许多不同的传递者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其它的圣训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07880" y="2325240"/>
            <a:ext cx="10256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拿阿布道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Abu Da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拿安尼沙依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An-Nisa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米得米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Jame' At-Termiz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拿马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ibn Ma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瓦达马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watta Mal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斯拿哈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snad ibn Hanb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拿哀达利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Ad-Darim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分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信赖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uthent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san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接受的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cceptab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aeef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微弱的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Wea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wdoo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捏造的虚构的‘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Fabricated).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虚构的传说不能被当成是圣训；据说主要的圣训录中没有这类的圣训；有些书藉中曾提及这类的圣训是存在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受信赖的圣训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ahih Hadith (Authenti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11354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递者必须是可信赖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必须是个想要看守圣训的态度；自己是个把它们背起来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递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nad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能连接回到穆罕默德的出处而没有中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所说的，必须符合其它也曾说过它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接受的圣训</a:t>
            </a:r>
            <a:br>
              <a:rPr sz="3600"/>
            </a:b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Hassan Hadith (Acceptabl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15920" y="2361960"/>
            <a:ext cx="10414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传递者对传递连中，任何一位表示他可能在说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所传递的，符合其它传递人士所传递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不具有足够的权威，被认为是绝对无误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微弱的圣训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Daeef Hadith (Weak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15920" y="2361960"/>
            <a:ext cx="11252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传递连中，出现中断与介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ursal, Munkate', Mu'd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递连中出现一，两个不相称的传递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unkar, Matroo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受信赖的圣训产生矛盾的情况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u'alal, Mutareb, Makloob, Shaz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宗教信仰是脑；没有宗教信仰的，就没有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19160" y="2285640"/>
            <a:ext cx="11175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作为伊斯兰教法的来源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是仅次于古兰经的第二重要法源。穆斯林通过圣训了解如何实践古兰经的教义，并解决古兰经中没有详细规定的问题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补充古兰经：有些律法在古兰经中只提到原则，具体实施细节则由圣训补充。例如： 古兰经命令信徒祈祷（拜功），但祈祷的方式和时间由圣训详细说明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禁止利息交易，但圣训明确规定了哪些交易形式属利息。  解释经文：圣训帮助解释古兰经中的模糊或多义的经文。例如，关于斋月的具体守斋方法和例外情况，圣训提供了详细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519920" y="807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15560" y="2361960"/>
            <a:ext cx="11099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导个人行为和道德实践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为穆斯林提供了日常生活的行为指南，涵盖从饮食习惯到待人接物的方方面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礼仪和道德：如何问候他人；如何保持清洁（如使用牙枝清洁口腔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活细节：饮食方式：先说（奉主之名），右手进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睡眠姿势：先知鼓励右侧卧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际关系：先知的教导鼓励友善、慷慨、宽容和尊重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Arial"/>
                <a:ea typeface="新宋体"/>
              </a:rPr>
              <a:t>古兰经被完整地保存，先前的经典却全部有了误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2971800"/>
            <a:ext cx="358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过多不同语言的译本，造成了误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7080" y="2361960"/>
            <a:ext cx="11074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提供宗教精神修炼的指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帮助穆斯林更深入地理解信仰的精神内涵，涵盖信仰、敬畏和虔诚的各个方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祈祷和念诵：圣训教导了许多祷词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u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和念诵方法，用于不同场景（如早晨、晚上、旅行时等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强化信仰：先知的言行通过圣训激励穆斯林在艰难时刻保持信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15560" y="2361960"/>
            <a:ext cx="11176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用于法律和司法体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法律（沙里亚）依赖于圣训来裁定很多具体的法律问题，特别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直接提到的事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刑法：圣训规定了刑罚的具体标准，例如偷窃和通奸的惩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合同和交易：圣训明确了一些商业交易的合法性和禁止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15560" y="2361960"/>
            <a:ext cx="11176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学术和神学探讨的依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是伊斯兰教义和神学研究的重要基础，学者通过圣训探讨信仰原则、哲学问题和伦理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法学：学者根据圣训建立不同的教法学派（如哈乃斐派、沙斐仪派）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学问题：圣训帮助阐明对天堂、地狱、末日审判等概念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15560" y="2361960"/>
            <a:ext cx="11176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社会和文化的影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不仅影响个人行为，还塑造了穆斯林社区的文化和社会规范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日和庆典：圣训记录了庆祝开斋节、宰牲节等活动的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家庭生活：圣训指导夫妻关系、教育子女和邻里相处的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15560" y="2133360"/>
            <a:ext cx="11099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对穆斯林的作用是多方面的，从指导宗教义务到影响日常生活，再到塑造法律体系。穆斯林通过圣训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教义转化为具体实践，使其在个人生活和社会事务中得到充分体现。同时，穆斯林学者非常重视对圣训真实性的研究，以确保信仰和实践的准确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PMingLiU"/>
              </a:rPr>
              <a:t>古兰经与圣训录的不同之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361960" y="236196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圣训是出於人的行为与言词，不像古兰经被视为安拉的言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圣训录的言词，不像古兰经是精准无误的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不一定是出於当年抄写员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tawatur,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的传递，有少部份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PMingLiU"/>
              </a:rPr>
              <a:t>古兰经与圣训录的不同之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2371320"/>
            <a:ext cx="9982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兰经是安拉精准的话，圣训则是出於穆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默德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兰经是藉由天使迦百列启示；圣训则相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也是出於启示的使然，如梦的启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兰经的抄写员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24)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比圣训录的传递者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多；圣训录的传递来源只有一至几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有些圣训的可信度高，有的可以接受，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则是弱的，可被质疑；穆斯林对古兰经却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有质疑的地方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伊斯兰的启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启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Wahy)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361960"/>
            <a:ext cx="506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启示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wahy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这字是源自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awha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。这字在古兰经中有多次的运用；这字的隐义与灵感，指引与引导某人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2361960"/>
            <a:ext cx="5297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Wahy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这字作为启示的意思是指安拉藉着他的先知，启示出对其创造物的引导。以下的古兰经说明了这字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270080" y="5351400"/>
            <a:ext cx="100584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</a:t>
            </a:r>
            <a:r>
              <a:rPr b="0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2:51</a:t>
            </a:r>
            <a:r>
              <a:rPr b="0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任何人也不配與真主對話，除非啟示，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從帷幕的後面，或派一個使者，奉他的命令而啟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他所欲啟示的。他確是至尊的，確是至睿的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04:14:49Z</dcterms:created>
  <dc:creator>Abdelrahman</dc:creator>
  <dc:description/>
  <dc:language>en-US</dc:language>
  <cp:lastModifiedBy>chan HK</cp:lastModifiedBy>
  <dcterms:modified xsi:type="dcterms:W3CDTF">2025-01-05T13:26:19Z</dcterms:modified>
  <cp:revision>34</cp:revision>
  <dc:subject/>
  <dc:title>Authorities in Islam</dc:title>
</cp:coreProperties>
</file>